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4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CD7-6E89-44A2-8D51-78E0FCDDCEBC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188-6F22-4862-B975-8DE0742A233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4E72-5019-465B-A969-2F6ED55E47D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7D9-6036-4E4D-829C-1E4A213F5C5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C78-E42D-404E-816C-DB5CAF33EC3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EDA0-E1D1-4977-8E77-CABE3369D7D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DEF-427F-426F-BF6D-A28165BB422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439-E9A6-4E72-9044-32C4D9A51C7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3E8-730E-49D1-B4C8-C654A8B35C6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274-6793-44FE-83D2-21BABF0EB48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D66-3AC9-4330-927D-66BEEC2BE308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5054-59BF-470E-A5E4-291E88BDCB9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5C2-6D13-408F-8FA4-204BFDE3DCA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66A-4063-4C7F-91B8-7967ECBADF6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79A5-BD81-4E0A-BDB5-B29313E4D3C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4F66-C0BF-4ACB-8004-0D756BE40B4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E10-59AF-48BA-A052-C70B779B109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6F5-5372-4D25-8B71-4AFC34ADE72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83C-6C76-4237-8A93-7D22B972202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EC99-C792-468A-8074-F425D3F2592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060C-C788-4D8B-978D-DB8946BD69E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8CE-00AB-4B3E-8983-415DEFC4331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67F-0BC0-4651-A1D4-4281958A8A1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2D1-737F-402C-B3F3-4A009A139A9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FF2-FEA7-4DE0-AAD7-C2911D030DA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203-AC73-4383-9592-D6A4FD140FFC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E4A-17C1-4229-90BF-E149539C9CB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8F44-B106-48A3-88F6-9D2762AA2F1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465F-E9B4-4B3F-8BB4-602DD6CFC3E9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42F-9C4A-4F31-B859-A8292F946FE2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2E90-869F-4E13-BCB4-96E401787F60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B56-0479-4A79-AE6D-CCD78CC7C92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7050-B95C-49F2-B4DD-464D232B1A2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4E8-82EA-4087-B4D1-4C67C993713D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CC9-7286-4E03-AEE0-129D38D0AC6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DC0A-2A79-4EFB-82CB-C8DBDFA7856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9806-F0FB-4C00-A1FD-29FF760B788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1A4-43B6-4E9D-A79E-4C5E5418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410-8829-4237-A61D-E6D3A87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FB9-57F2-4AFD-A2BA-B15B2EA8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E56-067B-47C2-8EA2-7BC47830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7FEE-5ED1-425F-AC7D-549EE93E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B27-11B1-46BC-B8C5-FEC7A946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80FB-2B20-4256-A526-563BF86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50A9-169F-42FE-8B3E-23398BBD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ED7-76B0-453F-ABF8-52D1DCEC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CA5-570F-4518-9D43-24A21C6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51EF-82BA-4F95-A508-110502A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035-2C2E-4DD7-8463-793C1BE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4E81-0A3A-4617-8F1C-D2DB42F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CAFB-2E25-4D7E-8B95-DB4E2F0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20D-0865-4137-895C-E3D465A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07F3-057D-434C-856A-88D1DF3B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B76-E962-44ED-A9F6-B1BB1FD9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D2DD-200D-43CE-B5C7-65D9E6E8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E793-CE8C-4CA4-9284-0D15E6E5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F11C-E159-43C6-974B-743E888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1D4E-5515-441B-ACCE-2CEDD2A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66F3-DD2C-4EFF-8D32-801D1B02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4EB-9EC1-410C-99AD-F518BBAC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3638-1A4C-48C0-B264-15CDDC0F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8264-6FB6-4A15-886E-98173D07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6240-45E6-4222-B158-B8EDD7F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DECD-7396-4242-B885-5A59278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4987-98BD-4512-BE7F-CA555665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C699-F088-491F-A2CC-9C23DC8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EC77-96BF-4766-AA47-179E1F83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3EDC-5E33-4591-BAC2-10C9D0A6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9C3F-644D-4D27-9A78-AC7BD7B0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88C0-C73D-43B1-AEDF-C38FFFA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13B-2A65-4D1B-95BF-BB3148F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F537-8F06-47C1-B859-57FC424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D84A-4738-4AF5-8AEA-DFF2F004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0673-03F8-40FB-AC61-52C1371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1B85-82A6-435E-8079-EA92045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8706-9DE1-4FF0-B45B-BD7948A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F0DB-EAAD-40DC-B107-6A95417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6224-2A59-4B76-98BA-A651295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A405-8F65-4A9C-BF49-935F820B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4CFB-9201-4AFE-B70A-655A96BD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30CA-1319-4013-8E08-0DA6DC7C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117-CDBE-4A1E-80BC-45482F2D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1380-61F8-460C-9DF2-1F2B760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A1E7-1266-4021-BA26-6B3155D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6CFD-F7F0-4A57-927A-CD5F8928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7AE6-E821-4806-B18C-DFEC28C4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1D08-D5C2-479F-876B-3AB4074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16B7F-9A11-456F-AB2A-E5E680A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982E-9C9B-4974-B2B6-A405C61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0134-7B09-4EE3-B14A-1AA662C9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B0BA3-F1A6-405A-AE4C-AA0656D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F01C-0303-449F-9897-5A55C20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9CD-D7C3-4F07-8CEE-261DB255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4D66-41D8-41AE-AEA7-DC9B9A38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5C7-85A0-4CD1-95AA-7B281BE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536-AEEB-46A9-A7D5-680BD58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780-E849-478C-846D-420117F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, 29th Ma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rvice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14F-779F-4E05-83FD-24C0FAFAC6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09, 29th Ma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Servic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FF7-7BE8-420A-B073-42B56703AB00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2009, 29th Ma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Servic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7225-02E1-4AD6-933A-39EB5DB675EA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2009, 29th Ma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Servic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F6F5-C482-475D-A32A-C70C7649E299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09, 29th Ma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Servic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63F1-EE41-46E1-AAFE-B92680CDCBE8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4.png"/><Relationship Id="rId11" Type="http://schemas.openxmlformats.org/officeDocument/2006/relationships/image" Target="../media/image46.png"/><Relationship Id="rId12" Type="http://schemas.openxmlformats.org/officeDocument/2006/relationships/image" Target="../media/image44.pn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6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59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7.png"/><Relationship Id="rId12" Type="http://schemas.openxmlformats.org/officeDocument/2006/relationships/image" Target="../media/image60.png"/><Relationship Id="rId13" Type="http://schemas.openxmlformats.org/officeDocument/2006/relationships/image" Target="../media/image59.png"/><Relationship Id="rId14" Type="http://schemas.openxmlformats.org/officeDocument/2006/relationships/image" Target="../media/image44.png"/><Relationship Id="rId15" Type="http://schemas.openxmlformats.org/officeDocument/2006/relationships/image" Target="../media/image61.png"/><Relationship Id="rId16" Type="http://schemas.openxmlformats.org/officeDocument/2006/relationships/image" Target="../media/image62.png"/><Relationship Id="rId17" Type="http://schemas.openxmlformats.org/officeDocument/2006/relationships/image" Target="../media/image63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64.png"/><Relationship Id="rId21" Type="http://schemas.openxmlformats.org/officeDocument/2006/relationships/image" Target="../media/image62.png"/><Relationship Id="rId22" Type="http://schemas.openxmlformats.org/officeDocument/2006/relationships/image" Target="../media/image65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olo 1" descr=""/>
          <p:cNvPicPr/>
          <p:nvPr/>
        </p:nvPicPr>
        <p:blipFill>
          <a:blip r:embed="rId1"/>
          <a:stretch/>
        </p:blipFill>
        <p:spPr>
          <a:xfrm>
            <a:off x="530280" y="725400"/>
            <a:ext cx="7864560" cy="2505240"/>
          </a:xfrm>
          <a:prstGeom prst="rect">
            <a:avLst/>
          </a:prstGeom>
          <a:ln w="0">
            <a:noFill/>
          </a:ln>
        </p:spPr>
      </p:pic>
      <p:pic>
        <p:nvPicPr>
          <p:cNvPr id="244" name="Sottotitolo 2" descr=""/>
          <p:cNvPicPr/>
          <p:nvPr/>
        </p:nvPicPr>
        <p:blipFill>
          <a:blip r:embed="rId2"/>
          <a:stretch/>
        </p:blipFill>
        <p:spPr>
          <a:xfrm>
            <a:off x="530280" y="3181320"/>
            <a:ext cx="7864560" cy="1805040"/>
          </a:xfrm>
          <a:prstGeom prst="rect">
            <a:avLst/>
          </a:prstGeom>
          <a:ln w="0">
            <a:noFill/>
          </a:ln>
        </p:spPr>
      </p:pic>
      <p:pic>
        <p:nvPicPr>
          <p:cNvPr id="245" name="Tabella 3" descr=""/>
          <p:cNvPicPr/>
          <p:nvPr/>
        </p:nvPicPr>
        <p:blipFill>
          <a:blip r:embed="rId3"/>
          <a:stretch/>
        </p:blipFill>
        <p:spPr>
          <a:xfrm>
            <a:off x="712800" y="4138560"/>
            <a:ext cx="8004240" cy="24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785880" y="1785600"/>
            <a:ext cx="72151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 a servic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shMap&lt;State, hashSet&lt;Action&gt;&gt;  listAction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shMap&lt;StateAction, HashSet&lt;State&gt;&gt; nextStat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et&lt;State&gt; finalStat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et&lt;TransitionFunction&gt; transition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ring filename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ivate State initialState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boolean isDeterministic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BF99-503E-4D8D-956A-7590F2A7CCE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Constructo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takes in input a String 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have essentially these phas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stance field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String in input isn’t empty, for all its length we do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ke the first transition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-A                                   S-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D1B-3443-445A-A758-AEE96135619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Connettore 2 18"/>
          <p:cNvCxnSpPr/>
          <p:nvPr/>
        </p:nvCxnSpPr>
        <p:spPr>
          <a:xfrm>
            <a:off x="5143680" y="3857400"/>
            <a:ext cx="17863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57160" y="4286160"/>
          <a:ext cx="7643880" cy="1189080"/>
        </p:xfrm>
        <a:graphic>
          <a:graphicData uri="http://schemas.openxmlformats.org/drawingml/2006/table">
            <a:tbl>
              <a:tblPr/>
              <a:tblGrid>
                <a:gridCol w="4429080"/>
                <a:gridCol w="32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ate a new State(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p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, create or find State(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n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nd Action(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a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ll structu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nd Sta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, create or find Sta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nd Action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18" name="Connettore 2 47"/>
          <p:cNvCxnSpPr/>
          <p:nvPr/>
        </p:nvCxnSpPr>
        <p:spPr>
          <a:xfrm flipH="1">
            <a:off x="2285280" y="3856680"/>
            <a:ext cx="178668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19" name="Connettore 2 50"/>
          <p:cNvCxnSpPr/>
          <p:nvPr/>
        </p:nvCxnSpPr>
        <p:spPr>
          <a:xfrm flipH="1">
            <a:off x="4285440" y="4856760"/>
            <a:ext cx="1500840" cy="5720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0" name="Connettore 2 53"/>
          <p:cNvCxnSpPr/>
          <p:nvPr/>
        </p:nvCxnSpPr>
        <p:spPr>
          <a:xfrm>
            <a:off x="6143400" y="4857480"/>
            <a:ext cx="1215000" cy="5720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321" name=""/>
          <p:cNvGraphicFramePr/>
          <p:nvPr/>
        </p:nvGraphicFramePr>
        <p:xfrm>
          <a:off x="2786040" y="5500800"/>
          <a:ext cx="6095880" cy="639720"/>
        </p:xfrm>
        <a:graphic>
          <a:graphicData uri="http://schemas.openxmlformats.org/drawingml/2006/table">
            <a:tbl>
              <a:tblPr/>
              <a:tblGrid>
                <a:gridCol w="321480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ert State(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n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in the list(non determinist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eate State-Action and a new list of nextSt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4425840" y="4929120"/>
            <a:ext cx="146160" cy="3571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0" descr=""/>
          <p:cNvPicPr/>
          <p:nvPr/>
        </p:nvPicPr>
        <p:blipFill>
          <a:blip r:embed="rId3"/>
          <a:stretch/>
        </p:blipFill>
        <p:spPr>
          <a:xfrm>
            <a:off x="6767640" y="4929120"/>
            <a:ext cx="161640" cy="357120"/>
          </a:xfrm>
          <a:prstGeom prst="rect">
            <a:avLst/>
          </a:prstGeom>
          <a:ln w="0">
            <a:noFill/>
          </a:ln>
        </p:spPr>
      </p:pic>
      <p:cxnSp>
        <p:nvCxnSpPr>
          <p:cNvPr id="326" name="Connettore 2 35"/>
          <p:cNvCxnSpPr/>
          <p:nvPr/>
        </p:nvCxnSpPr>
        <p:spPr>
          <a:xfrm flipH="1">
            <a:off x="2284200" y="485928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327" name="Picture 8" descr=""/>
          <p:cNvPicPr/>
          <p:nvPr/>
        </p:nvPicPr>
        <p:blipFill>
          <a:blip r:embed="rId4"/>
          <a:stretch/>
        </p:blipFill>
        <p:spPr>
          <a:xfrm>
            <a:off x="6311880" y="4000680"/>
            <a:ext cx="117360" cy="285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5"/>
          <a:stretch/>
        </p:blipFill>
        <p:spPr>
          <a:xfrm>
            <a:off x="2428920" y="4000680"/>
            <a:ext cx="142920" cy="31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85840" y="1856880"/>
            <a:ext cx="847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nstantia"/>
              </a:rPr>
              <a:t>Methods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Iterator&lt;State&gt; getFinalStates(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Iterator&lt;State&gt; getStates()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boolean isFinalState(State state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Iterator&lt;State&gt; getNextStates(State presentState, Action ac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boolean containsPresentAction(State presentState, Action actio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blic Iterator&lt;Action&gt; getActions(State presentState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ll this methods are O(1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363-0B30-4485-A166-13334FA23A91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13840" y="1714680"/>
            <a:ext cx="857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It does the Cartesian Product among avaliable servic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This class has four method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ublic static Service executeProduct(AvailableServices comm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rivate static String productService(Service s1, Service s2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rivate static String productTransition (Set&lt;TF&gt; l1, String l1Name,Set&lt;TFn&gt; l2, String l2Name)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rivate static String productFinalStates (Set&lt;State&gt; l1, Set&lt;State&gt; l2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The cost of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xecuteProduct call 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f ‘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m’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= # available services, ‘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N’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= # transition function =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GB" sz="19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∙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with 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‘n’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= # states and 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’ = # actions, we hav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1643040" y="5072040"/>
            <a:ext cx="6134040" cy="228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2928960" y="6072120"/>
            <a:ext cx="2867040" cy="209520"/>
          </a:xfrm>
          <a:prstGeom prst="rect">
            <a:avLst/>
          </a:prstGeom>
          <a:ln w="0">
            <a:noFill/>
          </a:ln>
        </p:spPr>
      </p:pic>
      <p:sp>
        <p:nvSpPr>
          <p:cNvPr id="344" name="Segnaposto numero diapositiva 1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361-46B8-4E27-B8C0-BA80FA0796C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Segnaposto contenuto 6" descr=""/>
          <p:cNvPicPr/>
          <p:nvPr/>
        </p:nvPicPr>
        <p:blipFill>
          <a:blip r:embed="rId1"/>
          <a:stretch/>
        </p:blipFill>
        <p:spPr>
          <a:xfrm>
            <a:off x="450720" y="1279440"/>
            <a:ext cx="8242560" cy="505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lasses present in this package 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State class: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represent a community sta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ommunity</a:t>
            </a: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 clas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get all states of communi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IteratorCommunityState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return an iterator on community sta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 algn="just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IteratorFinalCommunityState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return an iterator on final community sta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SimulatedBy</a:t>
            </a: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 clas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represent a pair of states in simul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Simulation</a:t>
            </a: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 clas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create simulation s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OrchestratorKey </a:t>
            </a: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clas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represent a pair of states in simulation with an a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51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Orchestrator</a:t>
            </a:r>
            <a:r>
              <a:rPr b="1" i="1" lang="it-IT" sz="2100" spc="-1" strike="noStrike">
                <a:solidFill>
                  <a:srgbClr val="000000"/>
                </a:solidFill>
                <a:latin typeface="Constantia"/>
              </a:rPr>
              <a:t> class: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o generate orchestrat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F21-6560-4EDE-AB25-80B53DCE016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olo 1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1202040"/>
          </a:xfrm>
          <a:prstGeom prst="rect">
            <a:avLst/>
          </a:prstGeom>
          <a:ln w="0">
            <a:noFill/>
          </a:ln>
        </p:spPr>
      </p:pic>
      <p:sp>
        <p:nvSpPr>
          <p:cNvPr id="353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egnaposto numero diapositiva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Rectangle 4"/>
          <p:cNvGrpSpPr/>
          <p:nvPr/>
        </p:nvGrpSpPr>
        <p:grpSpPr>
          <a:xfrm>
            <a:off x="3498840" y="1822320"/>
            <a:ext cx="1859040" cy="1646280"/>
            <a:chOff x="3498840" y="1822320"/>
            <a:chExt cx="1859040" cy="1646280"/>
          </a:xfrm>
        </p:grpSpPr>
        <p:pic>
          <p:nvPicPr>
            <p:cNvPr id="358" name="Rectangle 4" descr=""/>
            <p:cNvPicPr/>
            <p:nvPr/>
          </p:nvPicPr>
          <p:blipFill>
            <a:blip r:embed="rId2"/>
            <a:stretch/>
          </p:blipFill>
          <p:spPr>
            <a:xfrm>
              <a:off x="3498840" y="1822320"/>
              <a:ext cx="18590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3571920" y="1857240"/>
              <a:ext cx="171432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Simulation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Rectangle 5"/>
          <p:cNvGrpSpPr/>
          <p:nvPr/>
        </p:nvGrpSpPr>
        <p:grpSpPr>
          <a:xfrm>
            <a:off x="426960" y="2610000"/>
            <a:ext cx="1859040" cy="858600"/>
            <a:chOff x="426960" y="2610000"/>
            <a:chExt cx="1859040" cy="858600"/>
          </a:xfrm>
        </p:grpSpPr>
        <p:pic>
          <p:nvPicPr>
            <p:cNvPr id="361" name="Rectangle 5" descr=""/>
            <p:cNvPicPr/>
            <p:nvPr/>
          </p:nvPicPr>
          <p:blipFill>
            <a:blip r:embed="rId3"/>
            <a:stretch/>
          </p:blipFill>
          <p:spPr>
            <a:xfrm>
              <a:off x="426960" y="2610000"/>
              <a:ext cx="185904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00040" y="2643120"/>
              <a:ext cx="1714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Rectangle 6"/>
          <p:cNvGrpSpPr/>
          <p:nvPr/>
        </p:nvGrpSpPr>
        <p:grpSpPr>
          <a:xfrm>
            <a:off x="6357960" y="1822320"/>
            <a:ext cx="1859040" cy="1646280"/>
            <a:chOff x="6357960" y="1822320"/>
            <a:chExt cx="1859040" cy="1646280"/>
          </a:xfrm>
        </p:grpSpPr>
        <p:pic>
          <p:nvPicPr>
            <p:cNvPr id="364" name="Rectangle 6" descr=""/>
            <p:cNvPicPr/>
            <p:nvPr/>
          </p:nvPicPr>
          <p:blipFill>
            <a:blip r:embed="rId4"/>
            <a:stretch/>
          </p:blipFill>
          <p:spPr>
            <a:xfrm>
              <a:off x="6357960" y="1822320"/>
              <a:ext cx="18590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429240" y="1857240"/>
              <a:ext cx="171468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Orche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Rectangle 7"/>
          <p:cNvGrpSpPr/>
          <p:nvPr/>
        </p:nvGrpSpPr>
        <p:grpSpPr>
          <a:xfrm>
            <a:off x="66600" y="4821120"/>
            <a:ext cx="2579760" cy="573120"/>
            <a:chOff x="66600" y="4821120"/>
            <a:chExt cx="2579760" cy="573120"/>
          </a:xfrm>
        </p:grpSpPr>
        <p:pic>
          <p:nvPicPr>
            <p:cNvPr id="367" name="Rectangle 7" descr=""/>
            <p:cNvPicPr/>
            <p:nvPr/>
          </p:nvPicPr>
          <p:blipFill>
            <a:blip r:embed="rId5"/>
            <a:stretch/>
          </p:blipFill>
          <p:spPr>
            <a:xfrm>
              <a:off x="66600" y="4821120"/>
              <a:ext cx="2579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42920" y="4857840"/>
              <a:ext cx="2428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Cstate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8"/>
          <p:cNvSpPr/>
          <p:nvPr/>
        </p:nvSpPr>
        <p:spPr>
          <a:xfrm>
            <a:off x="71280" y="371484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d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rtesian produc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 available service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3143160" y="37148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d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e Simulat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d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eck th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Rectangle 10"/>
          <p:cNvGrpSpPr/>
          <p:nvPr/>
        </p:nvGrpSpPr>
        <p:grpSpPr>
          <a:xfrm>
            <a:off x="3071880" y="4821120"/>
            <a:ext cx="2573280" cy="573120"/>
            <a:chOff x="3071880" y="4821120"/>
            <a:chExt cx="2573280" cy="573120"/>
          </a:xfrm>
        </p:grpSpPr>
        <p:pic>
          <p:nvPicPr>
            <p:cNvPr id="372" name="Rectangle 10" descr=""/>
            <p:cNvPicPr/>
            <p:nvPr/>
          </p:nvPicPr>
          <p:blipFill>
            <a:blip r:embed="rId6"/>
            <a:stretch/>
          </p:blipFill>
          <p:spPr>
            <a:xfrm>
              <a:off x="3071880" y="4821120"/>
              <a:ext cx="25732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143160" y="4857840"/>
              <a:ext cx="2428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SimulatedBy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Rectangle 11"/>
          <p:cNvGrpSpPr/>
          <p:nvPr/>
        </p:nvGrpSpPr>
        <p:grpSpPr>
          <a:xfrm>
            <a:off x="426960" y="1822320"/>
            <a:ext cx="1859040" cy="712800"/>
            <a:chOff x="426960" y="1822320"/>
            <a:chExt cx="1859040" cy="712800"/>
          </a:xfrm>
        </p:grpSpPr>
        <p:pic>
          <p:nvPicPr>
            <p:cNvPr id="375" name="Rectangle 11" descr=""/>
            <p:cNvPicPr/>
            <p:nvPr/>
          </p:nvPicPr>
          <p:blipFill>
            <a:blip r:embed="rId7"/>
            <a:stretch/>
          </p:blipFill>
          <p:spPr>
            <a:xfrm>
              <a:off x="426960" y="1822320"/>
              <a:ext cx="18590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00040" y="1857240"/>
              <a:ext cx="1714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Target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12"/>
          <p:cNvSpPr/>
          <p:nvPr/>
        </p:nvSpPr>
        <p:spPr>
          <a:xfrm>
            <a:off x="6072120" y="378612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d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erate Orche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d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st available servi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cording to 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ed in th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rge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Rectangle 13"/>
          <p:cNvGrpSpPr/>
          <p:nvPr/>
        </p:nvGrpSpPr>
        <p:grpSpPr>
          <a:xfrm>
            <a:off x="5999040" y="5535720"/>
            <a:ext cx="2644920" cy="573120"/>
            <a:chOff x="5999040" y="5535720"/>
            <a:chExt cx="2644920" cy="573120"/>
          </a:xfrm>
        </p:grpSpPr>
        <p:pic>
          <p:nvPicPr>
            <p:cNvPr id="379" name="Rectangle 13" descr=""/>
            <p:cNvPicPr/>
            <p:nvPr/>
          </p:nvPicPr>
          <p:blipFill>
            <a:blip r:embed="rId8"/>
            <a:stretch/>
          </p:blipFill>
          <p:spPr>
            <a:xfrm>
              <a:off x="5999040" y="5535720"/>
              <a:ext cx="26449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072120" y="557208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OrchestratorKey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1" name="Elbow Connector 15"/>
          <p:cNvCxnSpPr/>
          <p:nvPr/>
        </p:nvCxnSpPr>
        <p:spPr>
          <a:xfrm>
            <a:off x="2214720" y="2143080"/>
            <a:ext cx="1357920" cy="464400"/>
          </a:xfrm>
          <a:prstGeom prst="bentConnector3">
            <a:avLst>
              <a:gd name="adj1" fmla="val 49986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82" name="Elbow Connector 18"/>
          <p:cNvCxnSpPr/>
          <p:nvPr/>
        </p:nvCxnSpPr>
        <p:spPr>
          <a:xfrm flipV="1">
            <a:off x="2214720" y="2606040"/>
            <a:ext cx="1357920" cy="394200"/>
          </a:xfrm>
          <a:prstGeom prst="bentConnector3">
            <a:avLst>
              <a:gd name="adj1" fmla="val 49986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83" name="Straight Arrow Connector 20"/>
          <p:cNvCxnSpPr/>
          <p:nvPr/>
        </p:nvCxnSpPr>
        <p:spPr>
          <a:xfrm>
            <a:off x="5285880" y="2606760"/>
            <a:ext cx="1143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olo 1" descr=""/>
          <p:cNvPicPr/>
          <p:nvPr/>
        </p:nvPicPr>
        <p:blipFill>
          <a:blip r:embed="rId1"/>
          <a:stretch/>
        </p:blipFill>
        <p:spPr>
          <a:xfrm>
            <a:off x="469800" y="701640"/>
            <a:ext cx="8240760" cy="993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Type of object</a:t>
            </a: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: Immutab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mmState: State[]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nstructor: public CState(State[] array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public State get(int index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public </a:t>
            </a:r>
            <a:r>
              <a:rPr b="1" lang="it-IT" sz="2100" spc="-1" strike="noStrike">
                <a:solidFill>
                  <a:srgbClr val="000000"/>
                </a:solidFill>
                <a:latin typeface="Constantia"/>
              </a:rPr>
              <a:t>int</a:t>
            </a: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 getSize(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public CState buildNewState (int i, State nex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equals() e hashCode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28F-D290-4BD3-B6DD-746489DE7BBE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availableService: AvailableServ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nstructor: public Community(AvailableServices a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7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ublic Iterator&lt;CState&gt; getCommunityStates 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ublic Iterator&lt;CState&gt; getFinalCommunityStates 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ublic CState getInitialStates 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ublic boolean isFinalCommunityState(CState c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8791-1493-4103-BB2C-26C9A9146CA2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Type of object</a:t>
            </a: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: Immutab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targetState: St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mmunityState: CSt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nstructor: public SimulatedBy (State ts, CState cs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get() method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equals() e hashCode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Simulation class gets a hashset of SimulatedBy objec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0C5-3D34-4E0F-B8EB-20F383442AE6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mmagine 11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858000" cy="4357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50" name="Titolo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4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airs : Set&lt;SimulatedB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target: Servi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mmunity: Commun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nstructor: Simulation(Service target, Community community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rotected void compositionViaSimulation 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rivate void createSimulationSet 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rivate boolean checkSimulationSet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protected Iterator&lt;SimulatedBy&gt; getSimulationSet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E32-525F-4A85-A43B-C64D00A3F1BD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ular Callout 133"/>
          <p:cNvGrpSpPr/>
          <p:nvPr/>
        </p:nvGrpSpPr>
        <p:grpSpPr>
          <a:xfrm>
            <a:off x="5284800" y="536400"/>
            <a:ext cx="2006640" cy="500400"/>
            <a:chOff x="5284800" y="536400"/>
            <a:chExt cx="2006640" cy="500400"/>
          </a:xfrm>
        </p:grpSpPr>
        <p:pic>
          <p:nvPicPr>
            <p:cNvPr id="409" name="Rectangular Callout 133" descr=""/>
            <p:cNvPicPr/>
            <p:nvPr/>
          </p:nvPicPr>
          <p:blipFill>
            <a:blip r:embed="rId1"/>
            <a:stretch/>
          </p:blipFill>
          <p:spPr>
            <a:xfrm>
              <a:off x="5284800" y="536400"/>
              <a:ext cx="200664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143760" y="571680"/>
              <a:ext cx="1071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-42840" y="401760"/>
            <a:ext cx="3335400" cy="890640"/>
          </a:xfrm>
          <a:prstGeom prst="rect">
            <a:avLst/>
          </a:prstGeom>
          <a:ln w="0">
            <a:noFill/>
          </a:ln>
        </p:spPr>
      </p:pic>
      <p:grpSp>
        <p:nvGrpSpPr>
          <p:cNvPr id="412" name="Rectangle 3"/>
          <p:cNvGrpSpPr/>
          <p:nvPr/>
        </p:nvGrpSpPr>
        <p:grpSpPr>
          <a:xfrm>
            <a:off x="3213000" y="249120"/>
            <a:ext cx="2217960" cy="573120"/>
            <a:chOff x="3213000" y="249120"/>
            <a:chExt cx="2217960" cy="573120"/>
          </a:xfrm>
        </p:grpSpPr>
        <p:pic>
          <p:nvPicPr>
            <p:cNvPr id="413" name="Rectangle 3" descr=""/>
            <p:cNvPicPr/>
            <p:nvPr/>
          </p:nvPicPr>
          <p:blipFill>
            <a:blip r:embed="rId3"/>
            <a:stretch/>
          </p:blipFill>
          <p:spPr>
            <a:xfrm>
              <a:off x="3213000" y="249120"/>
              <a:ext cx="22179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286080" y="285840"/>
              <a:ext cx="20718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createSimulation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5" name="Straight Arrow Connector 12"/>
          <p:cNvCxnSpPr/>
          <p:nvPr/>
        </p:nvCxnSpPr>
        <p:spPr>
          <a:xfrm flipH="1" flipV="1">
            <a:off x="5357520" y="499680"/>
            <a:ext cx="27151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16" name="TextBox 13"/>
          <p:cNvSpPr/>
          <p:nvPr/>
        </p:nvSpPr>
        <p:spPr>
          <a:xfrm>
            <a:off x="5724000" y="214200"/>
            <a:ext cx="156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arget,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Straight Arrow Connector 18"/>
          <p:cNvCxnSpPr/>
          <p:nvPr/>
        </p:nvCxnSpPr>
        <p:spPr>
          <a:xfrm flipH="1">
            <a:off x="4314240" y="713880"/>
            <a:ext cx="6840" cy="1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18" name="Flowchart: Decision 20"/>
          <p:cNvGrpSpPr/>
          <p:nvPr/>
        </p:nvGrpSpPr>
        <p:grpSpPr>
          <a:xfrm>
            <a:off x="3097080" y="847800"/>
            <a:ext cx="2432160" cy="718920"/>
            <a:chOff x="3097080" y="847800"/>
            <a:chExt cx="2432160" cy="718920"/>
          </a:xfrm>
        </p:grpSpPr>
        <p:pic>
          <p:nvPicPr>
            <p:cNvPr id="419" name="Flowchart: Decision 20" descr=""/>
            <p:cNvPicPr/>
            <p:nvPr/>
          </p:nvPicPr>
          <p:blipFill>
            <a:blip r:embed="rId4"/>
            <a:stretch/>
          </p:blipFill>
          <p:spPr>
            <a:xfrm>
              <a:off x="3097080" y="84780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743280" y="1028880"/>
              <a:ext cx="1143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!R.isEmpty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Flowchart: Decision 21"/>
          <p:cNvGrpSpPr/>
          <p:nvPr/>
        </p:nvGrpSpPr>
        <p:grpSpPr>
          <a:xfrm>
            <a:off x="3097080" y="1590840"/>
            <a:ext cx="2432160" cy="718920"/>
            <a:chOff x="3097080" y="1590840"/>
            <a:chExt cx="2432160" cy="718920"/>
          </a:xfrm>
        </p:grpSpPr>
        <p:pic>
          <p:nvPicPr>
            <p:cNvPr id="422" name="Flowchart: Decision 21" descr=""/>
            <p:cNvPicPr/>
            <p:nvPr/>
          </p:nvPicPr>
          <p:blipFill>
            <a:blip r:embed="rId5"/>
            <a:stretch/>
          </p:blipFill>
          <p:spPr>
            <a:xfrm>
              <a:off x="3097080" y="159084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3741840" y="177156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r in 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4" name="Straight Arrow Connector 26"/>
          <p:cNvCxnSpPr/>
          <p:nvPr/>
        </p:nvCxnSpPr>
        <p:spPr>
          <a:xfrm flipH="1">
            <a:off x="4312440" y="1457280"/>
            <a:ext cx="2520" cy="172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25" name="Flowchart: Decision 30"/>
          <p:cNvGrpSpPr/>
          <p:nvPr/>
        </p:nvGrpSpPr>
        <p:grpSpPr>
          <a:xfrm>
            <a:off x="3097080" y="2389320"/>
            <a:ext cx="2432160" cy="718920"/>
            <a:chOff x="3097080" y="2389320"/>
            <a:chExt cx="2432160" cy="718920"/>
          </a:xfrm>
        </p:grpSpPr>
        <p:pic>
          <p:nvPicPr>
            <p:cNvPr id="426" name="Flowchart: Decision 30" descr=""/>
            <p:cNvPicPr/>
            <p:nvPr/>
          </p:nvPicPr>
          <p:blipFill>
            <a:blip r:embed="rId6"/>
            <a:stretch/>
          </p:blipFill>
          <p:spPr>
            <a:xfrm>
              <a:off x="3097080" y="238932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743280" y="257184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a in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Flowchart: Decision 33"/>
          <p:cNvGrpSpPr/>
          <p:nvPr/>
        </p:nvGrpSpPr>
        <p:grpSpPr>
          <a:xfrm>
            <a:off x="3097080" y="3151080"/>
            <a:ext cx="2432160" cy="714600"/>
            <a:chOff x="3097080" y="3151080"/>
            <a:chExt cx="2432160" cy="714600"/>
          </a:xfrm>
        </p:grpSpPr>
        <p:pic>
          <p:nvPicPr>
            <p:cNvPr id="429" name="Flowchart: Decision 33" descr=""/>
            <p:cNvPicPr/>
            <p:nvPr/>
          </p:nvPicPr>
          <p:blipFill>
            <a:blip r:embed="rId7"/>
            <a:stretch/>
          </p:blipFill>
          <p:spPr>
            <a:xfrm>
              <a:off x="3097080" y="3151080"/>
              <a:ext cx="24321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743280" y="332892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s in 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1" name="Straight Arrow Connector 35"/>
          <p:cNvCxnSpPr/>
          <p:nvPr/>
        </p:nvCxnSpPr>
        <p:spPr>
          <a:xfrm flipH="1">
            <a:off x="4314600" y="3000240"/>
            <a:ext cx="2160" cy="186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32" name="Flowchart: Decision 36"/>
          <p:cNvGrpSpPr/>
          <p:nvPr/>
        </p:nvGrpSpPr>
        <p:grpSpPr>
          <a:xfrm>
            <a:off x="3097080" y="3906720"/>
            <a:ext cx="2432160" cy="714600"/>
            <a:chOff x="3097080" y="3906720"/>
            <a:chExt cx="2432160" cy="714600"/>
          </a:xfrm>
        </p:grpSpPr>
        <p:pic>
          <p:nvPicPr>
            <p:cNvPr id="433" name="Flowchart: Decision 36" descr=""/>
            <p:cNvPicPr/>
            <p:nvPr/>
          </p:nvPicPr>
          <p:blipFill>
            <a:blip r:embed="rId8"/>
            <a:stretch/>
          </p:blipFill>
          <p:spPr>
            <a:xfrm>
              <a:off x="3097080" y="3906720"/>
              <a:ext cx="24321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743280" y="408456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CheckAction(a,s)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5" name="Shape 40"/>
          <p:cNvCxnSpPr/>
          <p:nvPr/>
        </p:nvCxnSpPr>
        <p:spPr>
          <a:xfrm rot="5400000">
            <a:off x="2875320" y="1053360"/>
            <a:ext cx="330840" cy="2653200"/>
          </a:xfrm>
          <a:prstGeom prst="bentConnector3">
            <a:avLst>
              <a:gd name="adj1" fmla="val 23638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36" name="Straight Arrow Connector 44"/>
          <p:cNvCxnSpPr/>
          <p:nvPr/>
        </p:nvCxnSpPr>
        <p:spPr>
          <a:xfrm flipH="1">
            <a:off x="4314600" y="3757680"/>
            <a:ext cx="2160" cy="186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37" name="Rectangle 45"/>
          <p:cNvGrpSpPr/>
          <p:nvPr/>
        </p:nvGrpSpPr>
        <p:grpSpPr>
          <a:xfrm>
            <a:off x="5711760" y="4005360"/>
            <a:ext cx="2432160" cy="517320"/>
            <a:chOff x="5711760" y="4005360"/>
            <a:chExt cx="2432160" cy="517320"/>
          </a:xfrm>
        </p:grpSpPr>
        <p:pic>
          <p:nvPicPr>
            <p:cNvPr id="438" name="Rectangle 45" descr=""/>
            <p:cNvPicPr/>
            <p:nvPr/>
          </p:nvPicPr>
          <p:blipFill>
            <a:blip r:embed="rId9"/>
            <a:stretch/>
          </p:blipFill>
          <p:spPr>
            <a:xfrm>
              <a:off x="5711760" y="4005360"/>
              <a:ext cx="24321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786280" y="4041720"/>
              <a:ext cx="2286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Constantia"/>
                </a:rPr>
                <a:t>Next = </a:t>
              </a: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Get next state (a,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Flowchart: Decision 46"/>
          <p:cNvGrpSpPr/>
          <p:nvPr/>
        </p:nvGrpSpPr>
        <p:grpSpPr>
          <a:xfrm>
            <a:off x="5711760" y="4591080"/>
            <a:ext cx="2432160" cy="719280"/>
            <a:chOff x="5711760" y="4591080"/>
            <a:chExt cx="2432160" cy="719280"/>
          </a:xfrm>
        </p:grpSpPr>
        <p:pic>
          <p:nvPicPr>
            <p:cNvPr id="441" name="Flowchart: Decision 46" descr=""/>
            <p:cNvPicPr/>
            <p:nvPr/>
          </p:nvPicPr>
          <p:blipFill>
            <a:blip r:embed="rId10"/>
            <a:stretch/>
          </p:blipFill>
          <p:spPr>
            <a:xfrm>
              <a:off x="5711760" y="4591080"/>
              <a:ext cx="2432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6357960" y="477036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s’ in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Constantia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Rectangle 47"/>
          <p:cNvGrpSpPr/>
          <p:nvPr/>
        </p:nvGrpSpPr>
        <p:grpSpPr>
          <a:xfrm>
            <a:off x="5711760" y="5389560"/>
            <a:ext cx="2432160" cy="517680"/>
            <a:chOff x="5711760" y="5389560"/>
            <a:chExt cx="2432160" cy="517680"/>
          </a:xfrm>
        </p:grpSpPr>
        <p:pic>
          <p:nvPicPr>
            <p:cNvPr id="444" name="Rectangle 47" descr=""/>
            <p:cNvPicPr/>
            <p:nvPr/>
          </p:nvPicPr>
          <p:blipFill>
            <a:blip r:embed="rId11"/>
            <a:stretch/>
          </p:blipFill>
          <p:spPr>
            <a:xfrm>
              <a:off x="5711760" y="5389560"/>
              <a:ext cx="2432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786280" y="5427720"/>
              <a:ext cx="2286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Build  nr (cs,s’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6" name="Straight Arrow Connector 49"/>
          <p:cNvCxnSpPr/>
          <p:nvPr/>
        </p:nvCxnSpPr>
        <p:spPr>
          <a:xfrm flipV="1">
            <a:off x="5457960" y="4226760"/>
            <a:ext cx="3290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47" name="Straight Arrow Connector 51"/>
          <p:cNvCxnSpPr/>
          <p:nvPr/>
        </p:nvCxnSpPr>
        <p:spPr>
          <a:xfrm flipH="1">
            <a:off x="6928560" y="4413240"/>
            <a:ext cx="252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48" name="Straight Arrow Connector 54"/>
          <p:cNvCxnSpPr/>
          <p:nvPr/>
        </p:nvCxnSpPr>
        <p:spPr>
          <a:xfrm flipH="1">
            <a:off x="6928560" y="5200200"/>
            <a:ext cx="252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49" name="Flowchart: Decision 55"/>
          <p:cNvGrpSpPr/>
          <p:nvPr/>
        </p:nvGrpSpPr>
        <p:grpSpPr>
          <a:xfrm>
            <a:off x="3071880" y="5291280"/>
            <a:ext cx="2433600" cy="718920"/>
            <a:chOff x="3071880" y="5291280"/>
            <a:chExt cx="2433600" cy="718920"/>
          </a:xfrm>
        </p:grpSpPr>
        <p:pic>
          <p:nvPicPr>
            <p:cNvPr id="450" name="Flowchart: Decision 55" descr=""/>
            <p:cNvPicPr/>
            <p:nvPr/>
          </p:nvPicPr>
          <p:blipFill>
            <a:blip r:embed="rId12"/>
            <a:stretch/>
          </p:blipFill>
          <p:spPr>
            <a:xfrm>
              <a:off x="3071880" y="5291280"/>
              <a:ext cx="24336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714840" y="547200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nr in R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Oval 56"/>
          <p:cNvGrpSpPr/>
          <p:nvPr/>
        </p:nvGrpSpPr>
        <p:grpSpPr>
          <a:xfrm>
            <a:off x="7997760" y="6480"/>
            <a:ext cx="1079640" cy="1073160"/>
            <a:chOff x="7997760" y="6480"/>
            <a:chExt cx="1079640" cy="1073160"/>
          </a:xfrm>
        </p:grpSpPr>
        <p:pic>
          <p:nvPicPr>
            <p:cNvPr id="453" name="Oval 56" descr=""/>
            <p:cNvPicPr/>
            <p:nvPr/>
          </p:nvPicPr>
          <p:blipFill>
            <a:blip r:embed="rId13"/>
            <a:stretch/>
          </p:blipFill>
          <p:spPr>
            <a:xfrm>
              <a:off x="7997760" y="6480"/>
              <a:ext cx="10796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8209080" y="179280"/>
              <a:ext cx="6555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57"/>
          <p:cNvGrpSpPr/>
          <p:nvPr/>
        </p:nvGrpSpPr>
        <p:grpSpPr>
          <a:xfrm>
            <a:off x="139680" y="5608800"/>
            <a:ext cx="1079640" cy="1073160"/>
            <a:chOff x="139680" y="5608800"/>
            <a:chExt cx="1079640" cy="1073160"/>
          </a:xfrm>
        </p:grpSpPr>
        <p:pic>
          <p:nvPicPr>
            <p:cNvPr id="456" name="Oval 57" descr=""/>
            <p:cNvPicPr/>
            <p:nvPr/>
          </p:nvPicPr>
          <p:blipFill>
            <a:blip r:embed="rId14"/>
            <a:stretch/>
          </p:blipFill>
          <p:spPr>
            <a:xfrm>
              <a:off x="139680" y="5608800"/>
              <a:ext cx="10796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1000" y="5780160"/>
              <a:ext cx="655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58" name="Straight Arrow Connector 59"/>
          <p:cNvCxnSpPr/>
          <p:nvPr/>
        </p:nvCxnSpPr>
        <p:spPr>
          <a:xfrm flipH="1">
            <a:off x="5428800" y="56134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459" name="Rectangle 64"/>
          <p:cNvGrpSpPr/>
          <p:nvPr/>
        </p:nvGrpSpPr>
        <p:grpSpPr>
          <a:xfrm>
            <a:off x="3067200" y="6119640"/>
            <a:ext cx="2431800" cy="519120"/>
            <a:chOff x="3067200" y="6119640"/>
            <a:chExt cx="2431800" cy="519120"/>
          </a:xfrm>
        </p:grpSpPr>
        <p:pic>
          <p:nvPicPr>
            <p:cNvPr id="460" name="Rectangle 64" descr=""/>
            <p:cNvPicPr/>
            <p:nvPr/>
          </p:nvPicPr>
          <p:blipFill>
            <a:blip r:embed="rId15"/>
            <a:stretch/>
          </p:blipFill>
          <p:spPr>
            <a:xfrm>
              <a:off x="3067200" y="6119640"/>
              <a:ext cx="2431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141720" y="6157800"/>
              <a:ext cx="2286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Remove r from 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Box 67"/>
          <p:cNvSpPr/>
          <p:nvPr/>
        </p:nvSpPr>
        <p:spPr>
          <a:xfrm>
            <a:off x="4271040" y="500076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Shape 69"/>
          <p:cNvCxnSpPr/>
          <p:nvPr/>
        </p:nvCxnSpPr>
        <p:spPr>
          <a:xfrm flipH="1" flipV="1" rot="5400000">
            <a:off x="2191320" y="3263040"/>
            <a:ext cx="5358600" cy="1173960"/>
          </a:xfrm>
          <a:prstGeom prst="bentConnector4">
            <a:avLst>
              <a:gd name="adj1" fmla="val -4266"/>
              <a:gd name="adj2" fmla="val 377730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64" name="Straight Arrow Connector 80"/>
          <p:cNvCxnSpPr/>
          <p:nvPr/>
        </p:nvCxnSpPr>
        <p:spPr>
          <a:xfrm flipV="1">
            <a:off x="2784960" y="2714400"/>
            <a:ext cx="4006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65" name="TextBox 85"/>
          <p:cNvSpPr/>
          <p:nvPr/>
        </p:nvSpPr>
        <p:spPr>
          <a:xfrm>
            <a:off x="5361480" y="39816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Shape 88"/>
          <p:cNvCxnSpPr/>
          <p:nvPr/>
        </p:nvCxnSpPr>
        <p:spPr>
          <a:xfrm flipV="1" rot="10800000">
            <a:off x="642240" y="1170360"/>
            <a:ext cx="2529720" cy="444420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67" name="Straight Arrow Connector 90"/>
          <p:cNvCxnSpPr/>
          <p:nvPr/>
        </p:nvCxnSpPr>
        <p:spPr>
          <a:xfrm flipH="1">
            <a:off x="642600" y="1914480"/>
            <a:ext cx="2527920" cy="15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68" name="TextBox 94"/>
          <p:cNvSpPr/>
          <p:nvPr/>
        </p:nvSpPr>
        <p:spPr>
          <a:xfrm>
            <a:off x="4903560" y="4351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Shape 99"/>
          <p:cNvCxnSpPr/>
          <p:nvPr/>
        </p:nvCxnSpPr>
        <p:spPr>
          <a:xfrm flipH="1" flipV="1" rot="5400000">
            <a:off x="4827240" y="4370400"/>
            <a:ext cx="416520" cy="150084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70" name="Elbow Connector 103"/>
          <p:cNvCxnSpPr/>
          <p:nvPr/>
        </p:nvCxnSpPr>
        <p:spPr>
          <a:xfrm flipH="1" flipV="1">
            <a:off x="5428440" y="2714040"/>
            <a:ext cx="2615400" cy="2199240"/>
          </a:xfrm>
          <a:prstGeom prst="bentConnector3">
            <a:avLst>
              <a:gd name="adj1" fmla="val -960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71" name="TextBox 104"/>
          <p:cNvSpPr/>
          <p:nvPr/>
        </p:nvSpPr>
        <p:spPr>
          <a:xfrm>
            <a:off x="8212680" y="55720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5"/>
          <p:cNvSpPr/>
          <p:nvPr/>
        </p:nvSpPr>
        <p:spPr>
          <a:xfrm>
            <a:off x="6899760" y="51436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Shape 107"/>
          <p:cNvCxnSpPr/>
          <p:nvPr/>
        </p:nvCxnSpPr>
        <p:spPr>
          <a:xfrm flipH="1" flipV="1" rot="5400000">
            <a:off x="4628160" y="1600560"/>
            <a:ext cx="515160" cy="1141920"/>
          </a:xfrm>
          <a:prstGeom prst="bentConnector4">
            <a:avLst>
              <a:gd name="adj1" fmla="val 14685"/>
              <a:gd name="adj2" fmla="val 132387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74" name="TextBox 110"/>
          <p:cNvSpPr/>
          <p:nvPr/>
        </p:nvSpPr>
        <p:spPr>
          <a:xfrm>
            <a:off x="4916160" y="2319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2"/>
          <p:cNvSpPr/>
          <p:nvPr/>
        </p:nvSpPr>
        <p:spPr>
          <a:xfrm>
            <a:off x="1432440" y="20718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hape 114"/>
          <p:cNvCxnSpPr/>
          <p:nvPr/>
        </p:nvCxnSpPr>
        <p:spPr>
          <a:xfrm flipH="1" flipV="1" rot="5400000">
            <a:off x="4364640" y="3420360"/>
            <a:ext cx="1042200" cy="1143720"/>
          </a:xfrm>
          <a:prstGeom prst="bentConnector4">
            <a:avLst>
              <a:gd name="adj1" fmla="val -4630"/>
              <a:gd name="adj2" fmla="val 372607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77" name="TextBox 117"/>
          <p:cNvSpPr/>
          <p:nvPr/>
        </p:nvSpPr>
        <p:spPr>
          <a:xfrm>
            <a:off x="2712960" y="32148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hape 119"/>
          <p:cNvCxnSpPr/>
          <p:nvPr/>
        </p:nvCxnSpPr>
        <p:spPr>
          <a:xfrm flipH="1" flipV="1" rot="10800000">
            <a:off x="3170520" y="3470760"/>
            <a:ext cx="1113120" cy="2686680"/>
          </a:xfrm>
          <a:prstGeom prst="bentConnector4">
            <a:avLst>
              <a:gd name="adj1" fmla="val -68262"/>
              <a:gd name="adj2" fmla="val 96596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79" name="TextBox 122"/>
          <p:cNvSpPr/>
          <p:nvPr/>
        </p:nvSpPr>
        <p:spPr>
          <a:xfrm>
            <a:off x="3926160" y="36846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23"/>
          <p:cNvSpPr/>
          <p:nvPr/>
        </p:nvSpPr>
        <p:spPr>
          <a:xfrm>
            <a:off x="2712960" y="16430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24"/>
          <p:cNvSpPr/>
          <p:nvPr/>
        </p:nvSpPr>
        <p:spPr>
          <a:xfrm>
            <a:off x="2712960" y="9288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25"/>
          <p:cNvSpPr/>
          <p:nvPr/>
        </p:nvSpPr>
        <p:spPr>
          <a:xfrm>
            <a:off x="3880440" y="138276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31"/>
          <p:cNvSpPr/>
          <p:nvPr/>
        </p:nvSpPr>
        <p:spPr>
          <a:xfrm>
            <a:off x="4412160" y="29383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32"/>
          <p:cNvSpPr/>
          <p:nvPr/>
        </p:nvSpPr>
        <p:spPr>
          <a:xfrm>
            <a:off x="6139440" y="565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O(x*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onstanti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Rectangular Callout 134"/>
          <p:cNvGrpSpPr/>
          <p:nvPr/>
        </p:nvGrpSpPr>
        <p:grpSpPr>
          <a:xfrm>
            <a:off x="4906800" y="1206360"/>
            <a:ext cx="2163960" cy="689040"/>
            <a:chOff x="4906800" y="1206360"/>
            <a:chExt cx="2163960" cy="689040"/>
          </a:xfrm>
        </p:grpSpPr>
        <p:pic>
          <p:nvPicPr>
            <p:cNvPr id="486" name="Rectangular Callout 134" descr=""/>
            <p:cNvPicPr/>
            <p:nvPr/>
          </p:nvPicPr>
          <p:blipFill>
            <a:blip r:embed="rId16"/>
            <a:stretch/>
          </p:blipFill>
          <p:spPr>
            <a:xfrm>
              <a:off x="4906800" y="1206360"/>
              <a:ext cx="21639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929200" y="1428840"/>
              <a:ext cx="1071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(x*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Constantia"/>
                </a:rPr>
                <a:t>m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Rectangular Callout 135"/>
          <p:cNvGrpSpPr/>
          <p:nvPr/>
        </p:nvGrpSpPr>
        <p:grpSpPr>
          <a:xfrm>
            <a:off x="4816440" y="2017800"/>
            <a:ext cx="2254320" cy="664920"/>
            <a:chOff x="4816440" y="2017800"/>
            <a:chExt cx="2254320" cy="664920"/>
          </a:xfrm>
        </p:grpSpPr>
        <p:pic>
          <p:nvPicPr>
            <p:cNvPr id="489" name="Rectangular Callout 135" descr=""/>
            <p:cNvPicPr/>
            <p:nvPr/>
          </p:nvPicPr>
          <p:blipFill>
            <a:blip r:embed="rId17"/>
            <a:stretch/>
          </p:blipFill>
          <p:spPr>
            <a:xfrm>
              <a:off x="4816440" y="2017800"/>
              <a:ext cx="225432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929200" y="2214720"/>
              <a:ext cx="1071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(x*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Constantia"/>
                </a:rPr>
                <a:t>m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Rectangular Callout 136"/>
          <p:cNvGrpSpPr/>
          <p:nvPr/>
        </p:nvGrpSpPr>
        <p:grpSpPr>
          <a:xfrm>
            <a:off x="4950000" y="2676600"/>
            <a:ext cx="780840" cy="646200"/>
            <a:chOff x="4950000" y="2676600"/>
            <a:chExt cx="780840" cy="646200"/>
          </a:xfrm>
        </p:grpSpPr>
        <p:pic>
          <p:nvPicPr>
            <p:cNvPr id="492" name="Rectangular Callout 136" descr=""/>
            <p:cNvPicPr/>
            <p:nvPr/>
          </p:nvPicPr>
          <p:blipFill>
            <a:blip r:embed="rId18"/>
            <a:stretch/>
          </p:blipFill>
          <p:spPr>
            <a:xfrm>
              <a:off x="4950000" y="2676600"/>
              <a:ext cx="780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286240" y="2857680"/>
              <a:ext cx="357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Rectangular Callout 137"/>
          <p:cNvGrpSpPr/>
          <p:nvPr/>
        </p:nvGrpSpPr>
        <p:grpSpPr>
          <a:xfrm>
            <a:off x="4950000" y="3462480"/>
            <a:ext cx="822240" cy="645840"/>
            <a:chOff x="4950000" y="3462480"/>
            <a:chExt cx="822240" cy="645840"/>
          </a:xfrm>
        </p:grpSpPr>
        <p:pic>
          <p:nvPicPr>
            <p:cNvPr id="495" name="Rectangular Callout 137" descr=""/>
            <p:cNvPicPr/>
            <p:nvPr/>
          </p:nvPicPr>
          <p:blipFill>
            <a:blip r:embed="rId19"/>
            <a:stretch/>
          </p:blipFill>
          <p:spPr>
            <a:xfrm>
              <a:off x="4950000" y="3462480"/>
              <a:ext cx="8222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86240" y="3643200"/>
              <a:ext cx="3574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Rectangular Callout 139"/>
          <p:cNvGrpSpPr/>
          <p:nvPr/>
        </p:nvGrpSpPr>
        <p:grpSpPr>
          <a:xfrm>
            <a:off x="7564320" y="4913280"/>
            <a:ext cx="811440" cy="554040"/>
            <a:chOff x="7564320" y="4913280"/>
            <a:chExt cx="811440" cy="554040"/>
          </a:xfrm>
        </p:grpSpPr>
        <p:pic>
          <p:nvPicPr>
            <p:cNvPr id="498" name="Rectangular Callout 139" descr=""/>
            <p:cNvPicPr/>
            <p:nvPr/>
          </p:nvPicPr>
          <p:blipFill>
            <a:blip r:embed="rId20"/>
            <a:stretch/>
          </p:blipFill>
          <p:spPr>
            <a:xfrm>
              <a:off x="7564320" y="4913280"/>
              <a:ext cx="811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929720" y="500076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Rectangular Callout 140"/>
          <p:cNvGrpSpPr/>
          <p:nvPr/>
        </p:nvGrpSpPr>
        <p:grpSpPr>
          <a:xfrm>
            <a:off x="7601040" y="5668920"/>
            <a:ext cx="811080" cy="658800"/>
            <a:chOff x="7601040" y="5668920"/>
            <a:chExt cx="811080" cy="658800"/>
          </a:xfrm>
        </p:grpSpPr>
        <p:pic>
          <p:nvPicPr>
            <p:cNvPr id="501" name="Rectangular Callout 140" descr=""/>
            <p:cNvPicPr/>
            <p:nvPr/>
          </p:nvPicPr>
          <p:blipFill>
            <a:blip r:embed="rId21"/>
            <a:stretch/>
          </p:blipFill>
          <p:spPr>
            <a:xfrm>
              <a:off x="7601040" y="5668920"/>
              <a:ext cx="811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929720" y="5857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Box 141"/>
          <p:cNvSpPr/>
          <p:nvPr/>
        </p:nvSpPr>
        <p:spPr>
          <a:xfrm>
            <a:off x="318600" y="3714840"/>
            <a:ext cx="2634480" cy="368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Total Cost=O(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onstantia"/>
              </a:rPr>
              <a:t>2m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Connettore 4 97"/>
          <p:cNvCxnSpPr/>
          <p:nvPr/>
        </p:nvCxnSpPr>
        <p:spPr>
          <a:xfrm>
            <a:off x="4285800" y="6000480"/>
            <a:ext cx="428724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065093"/>
            </a:solidFill>
            <a:miter/>
          </a:ln>
        </p:spPr>
      </p:cxnSp>
      <p:sp>
        <p:nvSpPr>
          <p:cNvPr id="505" name="Connettore 1 102"/>
          <p:cNvSpPr/>
          <p:nvPr/>
        </p:nvSpPr>
        <p:spPr>
          <a:xfrm flipH="1">
            <a:off x="8572680" y="4502160"/>
            <a:ext cx="1440" cy="2000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onnettore 1 117"/>
          <p:cNvSpPr/>
          <p:nvPr/>
        </p:nvSpPr>
        <p:spPr>
          <a:xfrm flipH="1">
            <a:off x="4285800" y="5900760"/>
            <a:ext cx="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nnettore 1 119"/>
          <p:cNvSpPr/>
          <p:nvPr/>
        </p:nvSpPr>
        <p:spPr>
          <a:xfrm>
            <a:off x="4286160" y="5900760"/>
            <a:ext cx="0" cy="100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04"/>
          <p:cNvSpPr/>
          <p:nvPr/>
        </p:nvSpPr>
        <p:spPr>
          <a:xfrm>
            <a:off x="4998240" y="57862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Rectangle 27"/>
          <p:cNvGrpSpPr/>
          <p:nvPr/>
        </p:nvGrpSpPr>
        <p:grpSpPr>
          <a:xfrm>
            <a:off x="500040" y="2535120"/>
            <a:ext cx="2359080" cy="519120"/>
            <a:chOff x="500040" y="2535120"/>
            <a:chExt cx="2359080" cy="519120"/>
          </a:xfrm>
        </p:grpSpPr>
        <p:pic>
          <p:nvPicPr>
            <p:cNvPr id="510" name="Rectangle 27" descr=""/>
            <p:cNvPicPr/>
            <p:nvPr/>
          </p:nvPicPr>
          <p:blipFill>
            <a:blip r:embed="rId22"/>
            <a:stretch/>
          </p:blipFill>
          <p:spPr>
            <a:xfrm>
              <a:off x="500040" y="2535120"/>
              <a:ext cx="23590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71680" y="2571840"/>
              <a:ext cx="2214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Get TS and CS in 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Box 104"/>
          <p:cNvSpPr/>
          <p:nvPr/>
        </p:nvSpPr>
        <p:spPr>
          <a:xfrm>
            <a:off x="7926840" y="46432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Type of object</a:t>
            </a: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: Immutab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s: SimulatedB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action: A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Constructor: OrchestratorKey(SimulatedBy s, Action actio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get() method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50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equals() e hashCode(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nstantia"/>
              </a:rPr>
              <a:t>Orchestrator Class uses such objects as keys for its hashma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B777-89A9-4544-BE96-8B63742CC57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spcBef>
                <a:spcPts val="524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nstantia"/>
              </a:rPr>
              <a:t>s: Simul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nstantia"/>
              </a:rPr>
              <a:t>target: Servic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nstantia"/>
              </a:rPr>
              <a:t>community: Communit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orchestrator: Map&lt;OrchestratorKey, Set&lt;Service&gt;&gt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24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nstantia"/>
              </a:rPr>
              <a:t>Constructor: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Orchestrator(Community community, Service target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nstantia"/>
              </a:rPr>
              <a:t>public boolean generateOrchestrator(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ublic Iterator&lt;Service&gt; getServicesForStateAction(OrchestratorKey orch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ublic Iterator&lt;SimulatedBy&gt; getSimulationSet (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ublic Service createOrchestratorGenerator(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601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54E9-49E5-450C-9A08-6BE453FA687E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-109440" y="328680"/>
            <a:ext cx="3432240" cy="890640"/>
          </a:xfrm>
          <a:prstGeom prst="rect">
            <a:avLst/>
          </a:prstGeom>
          <a:ln w="0">
            <a:noFill/>
          </a:ln>
        </p:spPr>
      </p:pic>
      <p:grpSp>
        <p:nvGrpSpPr>
          <p:cNvPr id="526" name="Rectangle 3"/>
          <p:cNvGrpSpPr/>
          <p:nvPr/>
        </p:nvGrpSpPr>
        <p:grpSpPr>
          <a:xfrm>
            <a:off x="3176640" y="244440"/>
            <a:ext cx="2286000" cy="577800"/>
            <a:chOff x="3176640" y="244440"/>
            <a:chExt cx="2286000" cy="577800"/>
          </a:xfrm>
        </p:grpSpPr>
        <p:pic>
          <p:nvPicPr>
            <p:cNvPr id="527" name="Rectangle 3" descr=""/>
            <p:cNvPicPr/>
            <p:nvPr/>
          </p:nvPicPr>
          <p:blipFill>
            <a:blip r:embed="rId2"/>
            <a:stretch/>
          </p:blipFill>
          <p:spPr>
            <a:xfrm>
              <a:off x="3176640" y="244440"/>
              <a:ext cx="2286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247920" y="28584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s=compositionviasimulation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9" name="Straight Arrow Connector 12"/>
          <p:cNvCxnSpPr/>
          <p:nvPr/>
        </p:nvCxnSpPr>
        <p:spPr>
          <a:xfrm flipH="1" flipV="1">
            <a:off x="5390280" y="499680"/>
            <a:ext cx="26442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30" name="TextBox 13"/>
          <p:cNvSpPr/>
          <p:nvPr/>
        </p:nvSpPr>
        <p:spPr>
          <a:xfrm>
            <a:off x="5724000" y="214200"/>
            <a:ext cx="156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arget,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Straight Arrow Connector 18"/>
          <p:cNvCxnSpPr/>
          <p:nvPr/>
        </p:nvCxnSpPr>
        <p:spPr>
          <a:xfrm flipH="1">
            <a:off x="4314240" y="713880"/>
            <a:ext cx="5400" cy="1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532" name="Flowchart: Decision 20"/>
          <p:cNvGrpSpPr/>
          <p:nvPr/>
        </p:nvGrpSpPr>
        <p:grpSpPr>
          <a:xfrm>
            <a:off x="3097080" y="847800"/>
            <a:ext cx="2432160" cy="718920"/>
            <a:chOff x="3097080" y="847800"/>
            <a:chExt cx="2432160" cy="718920"/>
          </a:xfrm>
        </p:grpSpPr>
        <p:pic>
          <p:nvPicPr>
            <p:cNvPr id="533" name="Flowchart: Decision 20" descr=""/>
            <p:cNvPicPr/>
            <p:nvPr/>
          </p:nvPicPr>
          <p:blipFill>
            <a:blip r:embed="rId3"/>
            <a:stretch/>
          </p:blipFill>
          <p:spPr>
            <a:xfrm>
              <a:off x="3097080" y="84780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743280" y="1028880"/>
              <a:ext cx="1143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s.isEmpty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Flowchart: Decision 21"/>
          <p:cNvGrpSpPr/>
          <p:nvPr/>
        </p:nvGrpSpPr>
        <p:grpSpPr>
          <a:xfrm>
            <a:off x="3097080" y="1590840"/>
            <a:ext cx="2432160" cy="718920"/>
            <a:chOff x="3097080" y="1590840"/>
            <a:chExt cx="2432160" cy="718920"/>
          </a:xfrm>
        </p:grpSpPr>
        <p:pic>
          <p:nvPicPr>
            <p:cNvPr id="536" name="Flowchart: Decision 21" descr=""/>
            <p:cNvPicPr/>
            <p:nvPr/>
          </p:nvPicPr>
          <p:blipFill>
            <a:blip r:embed="rId4"/>
            <a:stretch/>
          </p:blipFill>
          <p:spPr>
            <a:xfrm>
              <a:off x="3097080" y="159084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3741840" y="177156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Pairs.has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Rectangle 27"/>
          <p:cNvGrpSpPr/>
          <p:nvPr/>
        </p:nvGrpSpPr>
        <p:grpSpPr>
          <a:xfrm>
            <a:off x="5784840" y="2109960"/>
            <a:ext cx="2646360" cy="510840"/>
            <a:chOff x="5784840" y="2109960"/>
            <a:chExt cx="2646360" cy="510840"/>
          </a:xfrm>
        </p:grpSpPr>
        <p:pic>
          <p:nvPicPr>
            <p:cNvPr id="539" name="Rectangle 27" descr=""/>
            <p:cNvPicPr/>
            <p:nvPr/>
          </p:nvPicPr>
          <p:blipFill>
            <a:blip r:embed="rId5"/>
            <a:stretch/>
          </p:blipFill>
          <p:spPr>
            <a:xfrm>
              <a:off x="5784840" y="2109960"/>
              <a:ext cx="264636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857920" y="2143080"/>
              <a:ext cx="2500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Get TS and CS from one Pa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Flowchart: Decision 30"/>
          <p:cNvGrpSpPr/>
          <p:nvPr/>
        </p:nvGrpSpPr>
        <p:grpSpPr>
          <a:xfrm>
            <a:off x="3097080" y="2389320"/>
            <a:ext cx="2432160" cy="718920"/>
            <a:chOff x="3097080" y="2389320"/>
            <a:chExt cx="2432160" cy="718920"/>
          </a:xfrm>
        </p:grpSpPr>
        <p:pic>
          <p:nvPicPr>
            <p:cNvPr id="542" name="Flowchart: Decision 30" descr=""/>
            <p:cNvPicPr/>
            <p:nvPr/>
          </p:nvPicPr>
          <p:blipFill>
            <a:blip r:embed="rId6"/>
            <a:stretch/>
          </p:blipFill>
          <p:spPr>
            <a:xfrm>
              <a:off x="3097080" y="238932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743280" y="257184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a in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Flowchart: Decision 33"/>
          <p:cNvGrpSpPr/>
          <p:nvPr/>
        </p:nvGrpSpPr>
        <p:grpSpPr>
          <a:xfrm>
            <a:off x="3097080" y="3151080"/>
            <a:ext cx="2432160" cy="714600"/>
            <a:chOff x="3097080" y="3151080"/>
            <a:chExt cx="2432160" cy="714600"/>
          </a:xfrm>
        </p:grpSpPr>
        <p:pic>
          <p:nvPicPr>
            <p:cNvPr id="545" name="Flowchart: Decision 33" descr=""/>
            <p:cNvPicPr/>
            <p:nvPr/>
          </p:nvPicPr>
          <p:blipFill>
            <a:blip r:embed="rId7"/>
            <a:stretch/>
          </p:blipFill>
          <p:spPr>
            <a:xfrm>
              <a:off x="3097080" y="3151080"/>
              <a:ext cx="24321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743280" y="332892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s in 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Flowchart: Decision 36"/>
          <p:cNvGrpSpPr/>
          <p:nvPr/>
        </p:nvGrpSpPr>
        <p:grpSpPr>
          <a:xfrm>
            <a:off x="3097080" y="3906720"/>
            <a:ext cx="2432160" cy="714600"/>
            <a:chOff x="3097080" y="3906720"/>
            <a:chExt cx="2432160" cy="714600"/>
          </a:xfrm>
        </p:grpSpPr>
        <p:pic>
          <p:nvPicPr>
            <p:cNvPr id="548" name="Flowchart: Decision 36" descr=""/>
            <p:cNvPicPr/>
            <p:nvPr/>
          </p:nvPicPr>
          <p:blipFill>
            <a:blip r:embed="rId8"/>
            <a:stretch/>
          </p:blipFill>
          <p:spPr>
            <a:xfrm>
              <a:off x="3097080" y="3906720"/>
              <a:ext cx="24321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743280" y="408456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Serv.contains(s,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0" name="Shape 40"/>
          <p:cNvCxnSpPr/>
          <p:nvPr/>
        </p:nvCxnSpPr>
        <p:spPr>
          <a:xfrm>
            <a:off x="5455800" y="1914120"/>
            <a:ext cx="1653480" cy="22932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551" name="Flowchart: Decision 46"/>
          <p:cNvGrpSpPr/>
          <p:nvPr/>
        </p:nvGrpSpPr>
        <p:grpSpPr>
          <a:xfrm>
            <a:off x="3108240" y="4632480"/>
            <a:ext cx="2433600" cy="720720"/>
            <a:chOff x="3108240" y="4632480"/>
            <a:chExt cx="2433600" cy="720720"/>
          </a:xfrm>
        </p:grpSpPr>
        <p:pic>
          <p:nvPicPr>
            <p:cNvPr id="552" name="Flowchart: Decision 46" descr=""/>
            <p:cNvPicPr/>
            <p:nvPr/>
          </p:nvPicPr>
          <p:blipFill>
            <a:blip r:embed="rId9"/>
            <a:stretch/>
          </p:blipFill>
          <p:spPr>
            <a:xfrm>
              <a:off x="3108240" y="4632480"/>
              <a:ext cx="24336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753000" y="481320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nstantia"/>
                </a:rPr>
                <a:t>F.E. s’ in 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Flowchart: Decision 55"/>
          <p:cNvGrpSpPr/>
          <p:nvPr/>
        </p:nvGrpSpPr>
        <p:grpSpPr>
          <a:xfrm>
            <a:off x="3114720" y="5346720"/>
            <a:ext cx="2432160" cy="719280"/>
            <a:chOff x="3114720" y="5346720"/>
            <a:chExt cx="2432160" cy="719280"/>
          </a:xfrm>
        </p:grpSpPr>
        <p:pic>
          <p:nvPicPr>
            <p:cNvPr id="555" name="Flowchart: Decision 55" descr=""/>
            <p:cNvPicPr/>
            <p:nvPr/>
          </p:nvPicPr>
          <p:blipFill>
            <a:blip r:embed="rId10"/>
            <a:stretch/>
          </p:blipFill>
          <p:spPr>
            <a:xfrm>
              <a:off x="3114720" y="5346720"/>
              <a:ext cx="2432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760920" y="552600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s.contain(n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Oval 56"/>
          <p:cNvGrpSpPr/>
          <p:nvPr/>
        </p:nvGrpSpPr>
        <p:grpSpPr>
          <a:xfrm>
            <a:off x="7997760" y="6480"/>
            <a:ext cx="1079640" cy="1073160"/>
            <a:chOff x="7997760" y="6480"/>
            <a:chExt cx="1079640" cy="1073160"/>
          </a:xfrm>
        </p:grpSpPr>
        <p:pic>
          <p:nvPicPr>
            <p:cNvPr id="558" name="Oval 56" descr=""/>
            <p:cNvPicPr/>
            <p:nvPr/>
          </p:nvPicPr>
          <p:blipFill>
            <a:blip r:embed="rId11"/>
            <a:stretch/>
          </p:blipFill>
          <p:spPr>
            <a:xfrm>
              <a:off x="7997760" y="6480"/>
              <a:ext cx="10796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209080" y="179280"/>
              <a:ext cx="6555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Oval 57"/>
          <p:cNvGrpSpPr/>
          <p:nvPr/>
        </p:nvGrpSpPr>
        <p:grpSpPr>
          <a:xfrm>
            <a:off x="139680" y="3462480"/>
            <a:ext cx="1079640" cy="1079280"/>
            <a:chOff x="139680" y="3462480"/>
            <a:chExt cx="1079640" cy="1079280"/>
          </a:xfrm>
        </p:grpSpPr>
        <p:pic>
          <p:nvPicPr>
            <p:cNvPr id="561" name="Oval 57" descr=""/>
            <p:cNvPicPr/>
            <p:nvPr/>
          </p:nvPicPr>
          <p:blipFill>
            <a:blip r:embed="rId12"/>
            <a:stretch/>
          </p:blipFill>
          <p:spPr>
            <a:xfrm>
              <a:off x="139680" y="3462480"/>
              <a:ext cx="10796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351000" y="3637080"/>
              <a:ext cx="655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  <a:ea typeface="Times New Roman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Box 63"/>
          <p:cNvSpPr/>
          <p:nvPr/>
        </p:nvSpPr>
        <p:spPr>
          <a:xfrm>
            <a:off x="2218320" y="6580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hape 88"/>
          <p:cNvCxnSpPr/>
          <p:nvPr/>
        </p:nvCxnSpPr>
        <p:spPr>
          <a:xfrm flipV="1" rot="10800000">
            <a:off x="677160" y="1170360"/>
            <a:ext cx="2494800" cy="232956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65" name="Elbow Connector 92"/>
          <p:cNvCxnSpPr/>
          <p:nvPr/>
        </p:nvCxnSpPr>
        <p:spPr>
          <a:xfrm rot="10800000">
            <a:off x="3171240" y="3471120"/>
            <a:ext cx="2160" cy="756360"/>
          </a:xfrm>
          <a:prstGeom prst="bentConnector3">
            <a:avLst>
              <a:gd name="adj1" fmla="val 35340000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66" name="TextBox 94"/>
          <p:cNvSpPr/>
          <p:nvPr/>
        </p:nvSpPr>
        <p:spPr>
          <a:xfrm>
            <a:off x="2769120" y="4000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1"/>
          <p:cNvSpPr/>
          <p:nvPr/>
        </p:nvSpPr>
        <p:spPr>
          <a:xfrm>
            <a:off x="1428840" y="928800"/>
            <a:ext cx="157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, return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2"/>
          <p:cNvSpPr/>
          <p:nvPr/>
        </p:nvSpPr>
        <p:spPr>
          <a:xfrm>
            <a:off x="5570280" y="9288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Rectangle 43"/>
          <p:cNvGrpSpPr/>
          <p:nvPr/>
        </p:nvGrpSpPr>
        <p:grpSpPr>
          <a:xfrm>
            <a:off x="5784840" y="1311120"/>
            <a:ext cx="2646360" cy="511200"/>
            <a:chOff x="5784840" y="1311120"/>
            <a:chExt cx="2646360" cy="511200"/>
          </a:xfrm>
        </p:grpSpPr>
        <p:pic>
          <p:nvPicPr>
            <p:cNvPr id="570" name="Rectangle 43" descr=""/>
            <p:cNvPicPr/>
            <p:nvPr/>
          </p:nvPicPr>
          <p:blipFill>
            <a:blip r:embed="rId13"/>
            <a:stretch/>
          </p:blipFill>
          <p:spPr>
            <a:xfrm>
              <a:off x="5784840" y="1311120"/>
              <a:ext cx="2646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857920" y="1344600"/>
              <a:ext cx="2500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Pairs=getSimulation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2" name="Shape 50"/>
          <p:cNvCxnSpPr/>
          <p:nvPr/>
        </p:nvCxnSpPr>
        <p:spPr>
          <a:xfrm>
            <a:off x="5457960" y="1171080"/>
            <a:ext cx="1651680" cy="17388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73" name="Shape 53"/>
          <p:cNvCxnSpPr/>
          <p:nvPr/>
        </p:nvCxnSpPr>
        <p:spPr>
          <a:xfrm flipV="1" rot="10800000">
            <a:off x="4312440" y="1527840"/>
            <a:ext cx="1545480" cy="10044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574" name="Flowchart: Decision 108"/>
          <p:cNvGrpSpPr/>
          <p:nvPr/>
        </p:nvGrpSpPr>
        <p:grpSpPr>
          <a:xfrm>
            <a:off x="3139920" y="6108840"/>
            <a:ext cx="2432160" cy="718920"/>
            <a:chOff x="3139920" y="6108840"/>
            <a:chExt cx="2432160" cy="718920"/>
          </a:xfrm>
        </p:grpSpPr>
        <p:pic>
          <p:nvPicPr>
            <p:cNvPr id="575" name="Flowchart: Decision 108" descr=""/>
            <p:cNvPicPr/>
            <p:nvPr/>
          </p:nvPicPr>
          <p:blipFill>
            <a:blip r:embed="rId14"/>
            <a:stretch/>
          </p:blipFill>
          <p:spPr>
            <a:xfrm>
              <a:off x="3139920" y="6108840"/>
              <a:ext cx="2432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786120" y="6286680"/>
              <a:ext cx="1143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Services.contain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Rectangle 109"/>
          <p:cNvGrpSpPr/>
          <p:nvPr/>
        </p:nvGrpSpPr>
        <p:grpSpPr>
          <a:xfrm>
            <a:off x="6145200" y="3608280"/>
            <a:ext cx="2071800" cy="714600"/>
            <a:chOff x="6145200" y="3608280"/>
            <a:chExt cx="2071800" cy="714600"/>
          </a:xfrm>
        </p:grpSpPr>
        <p:pic>
          <p:nvPicPr>
            <p:cNvPr id="578" name="Rectangle 109" descr=""/>
            <p:cNvPicPr/>
            <p:nvPr/>
          </p:nvPicPr>
          <p:blipFill>
            <a:blip r:embed="rId15"/>
            <a:stretch/>
          </p:blipFill>
          <p:spPr>
            <a:xfrm>
              <a:off x="6145200" y="3608280"/>
              <a:ext cx="20718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215040" y="3643200"/>
              <a:ext cx="19288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Generate Key (Pair,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Orch.put(Key, Servic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10"/>
          <p:cNvSpPr/>
          <p:nvPr/>
        </p:nvSpPr>
        <p:spPr>
          <a:xfrm>
            <a:off x="3646800" y="58579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Rectangle 115"/>
          <p:cNvGrpSpPr/>
          <p:nvPr/>
        </p:nvGrpSpPr>
        <p:grpSpPr>
          <a:xfrm>
            <a:off x="5784840" y="6205680"/>
            <a:ext cx="2646360" cy="519120"/>
            <a:chOff x="5784840" y="6205680"/>
            <a:chExt cx="2646360" cy="519120"/>
          </a:xfrm>
        </p:grpSpPr>
        <p:pic>
          <p:nvPicPr>
            <p:cNvPr id="582" name="Rectangle 115" descr=""/>
            <p:cNvPicPr/>
            <p:nvPr/>
          </p:nvPicPr>
          <p:blipFill>
            <a:blip r:embed="rId16"/>
            <a:stretch/>
          </p:blipFill>
          <p:spPr>
            <a:xfrm>
              <a:off x="5784840" y="6205680"/>
              <a:ext cx="2646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857920" y="6240600"/>
              <a:ext cx="25002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Services.add(Serv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4" name="Straight Arrow Connector 117"/>
          <p:cNvCxnSpPr/>
          <p:nvPr/>
        </p:nvCxnSpPr>
        <p:spPr>
          <a:xfrm>
            <a:off x="5474880" y="6422760"/>
            <a:ext cx="383400" cy="3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85" name="TextBox 118"/>
          <p:cNvSpPr/>
          <p:nvPr/>
        </p:nvSpPr>
        <p:spPr>
          <a:xfrm>
            <a:off x="5475240" y="61437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1"/>
          <p:cNvSpPr/>
          <p:nvPr/>
        </p:nvSpPr>
        <p:spPr>
          <a:xfrm>
            <a:off x="5405760" y="16891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32"/>
          <p:cNvSpPr/>
          <p:nvPr/>
        </p:nvSpPr>
        <p:spPr>
          <a:xfrm>
            <a:off x="3760560" y="20811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Shape 137"/>
          <p:cNvCxnSpPr/>
          <p:nvPr/>
        </p:nvCxnSpPr>
        <p:spPr>
          <a:xfrm rot="5400000">
            <a:off x="2469960" y="443520"/>
            <a:ext cx="86400" cy="359964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89" name="Elbow Connector 139"/>
          <p:cNvCxnSpPr/>
          <p:nvPr/>
        </p:nvCxnSpPr>
        <p:spPr>
          <a:xfrm rot="10800000">
            <a:off x="3169440" y="1913760"/>
            <a:ext cx="2520" cy="801000"/>
          </a:xfrm>
          <a:prstGeom prst="bentConnector3">
            <a:avLst>
              <a:gd name="adj1" fmla="val 26683333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90" name="TextBox 141"/>
          <p:cNvSpPr/>
          <p:nvPr/>
        </p:nvSpPr>
        <p:spPr>
          <a:xfrm>
            <a:off x="2855880" y="25002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2"/>
          <p:cNvSpPr/>
          <p:nvPr/>
        </p:nvSpPr>
        <p:spPr>
          <a:xfrm>
            <a:off x="4361400" y="29383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43"/>
          <p:cNvSpPr/>
          <p:nvPr/>
        </p:nvSpPr>
        <p:spPr>
          <a:xfrm>
            <a:off x="4361400" y="371016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Straight Arrow Connector 145"/>
          <p:cNvCxnSpPr/>
          <p:nvPr/>
        </p:nvCxnSpPr>
        <p:spPr>
          <a:xfrm flipH="1">
            <a:off x="4314600" y="3000240"/>
            <a:ext cx="2160" cy="186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94" name="Straight Arrow Connector 147"/>
          <p:cNvCxnSpPr/>
          <p:nvPr/>
        </p:nvCxnSpPr>
        <p:spPr>
          <a:xfrm flipH="1">
            <a:off x="4314600" y="3757680"/>
            <a:ext cx="2160" cy="186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95" name="Straight Arrow Connector 149"/>
          <p:cNvCxnSpPr/>
          <p:nvPr/>
        </p:nvCxnSpPr>
        <p:spPr>
          <a:xfrm>
            <a:off x="4314960" y="4513320"/>
            <a:ext cx="10080" cy="1576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596" name="Rectangular Callout 152"/>
          <p:cNvGrpSpPr/>
          <p:nvPr/>
        </p:nvGrpSpPr>
        <p:grpSpPr>
          <a:xfrm>
            <a:off x="2000160" y="1365120"/>
            <a:ext cx="1743120" cy="592200"/>
            <a:chOff x="2000160" y="1365120"/>
            <a:chExt cx="1743120" cy="592200"/>
          </a:xfrm>
        </p:grpSpPr>
        <p:pic>
          <p:nvPicPr>
            <p:cNvPr id="597" name="Rectangular Callout 152" descr=""/>
            <p:cNvPicPr/>
            <p:nvPr/>
          </p:nvPicPr>
          <p:blipFill>
            <a:blip r:embed="rId17"/>
            <a:stretch/>
          </p:blipFill>
          <p:spPr>
            <a:xfrm>
              <a:off x="2000160" y="1365120"/>
              <a:ext cx="1743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071800" y="1428840"/>
              <a:ext cx="1071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(x*n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Constantia"/>
                </a:rPr>
                <a:t>m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Rectangular Callout 153"/>
          <p:cNvGrpSpPr/>
          <p:nvPr/>
        </p:nvGrpSpPr>
        <p:grpSpPr>
          <a:xfrm>
            <a:off x="4950000" y="2676600"/>
            <a:ext cx="780840" cy="646200"/>
            <a:chOff x="4950000" y="2676600"/>
            <a:chExt cx="780840" cy="646200"/>
          </a:xfrm>
        </p:grpSpPr>
        <p:pic>
          <p:nvPicPr>
            <p:cNvPr id="600" name="Rectangular Callout 153" descr=""/>
            <p:cNvPicPr/>
            <p:nvPr/>
          </p:nvPicPr>
          <p:blipFill>
            <a:blip r:embed="rId18"/>
            <a:stretch/>
          </p:blipFill>
          <p:spPr>
            <a:xfrm>
              <a:off x="4950000" y="2676600"/>
              <a:ext cx="780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5286240" y="2857680"/>
              <a:ext cx="357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Rectangular Callout 154"/>
          <p:cNvGrpSpPr/>
          <p:nvPr/>
        </p:nvGrpSpPr>
        <p:grpSpPr>
          <a:xfrm>
            <a:off x="4950000" y="3462480"/>
            <a:ext cx="822240" cy="645840"/>
            <a:chOff x="4950000" y="3462480"/>
            <a:chExt cx="822240" cy="645840"/>
          </a:xfrm>
        </p:grpSpPr>
        <p:pic>
          <p:nvPicPr>
            <p:cNvPr id="603" name="Rectangular Callout 154" descr=""/>
            <p:cNvPicPr/>
            <p:nvPr/>
          </p:nvPicPr>
          <p:blipFill>
            <a:blip r:embed="rId19"/>
            <a:stretch/>
          </p:blipFill>
          <p:spPr>
            <a:xfrm>
              <a:off x="4950000" y="3462480"/>
              <a:ext cx="8222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5286240" y="3643200"/>
              <a:ext cx="3574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Rectangular Callout 155"/>
          <p:cNvGrpSpPr/>
          <p:nvPr/>
        </p:nvGrpSpPr>
        <p:grpSpPr>
          <a:xfrm>
            <a:off x="4840200" y="4986360"/>
            <a:ext cx="822240" cy="555480"/>
            <a:chOff x="4840200" y="4986360"/>
            <a:chExt cx="822240" cy="555480"/>
          </a:xfrm>
        </p:grpSpPr>
        <p:pic>
          <p:nvPicPr>
            <p:cNvPr id="606" name="Rectangular Callout 155" descr=""/>
            <p:cNvPicPr/>
            <p:nvPr/>
          </p:nvPicPr>
          <p:blipFill>
            <a:blip r:embed="rId20"/>
            <a:stretch/>
          </p:blipFill>
          <p:spPr>
            <a:xfrm>
              <a:off x="4840200" y="4986360"/>
              <a:ext cx="8222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214960" y="507204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Rectangle 156"/>
          <p:cNvGrpSpPr/>
          <p:nvPr/>
        </p:nvGrpSpPr>
        <p:grpSpPr>
          <a:xfrm>
            <a:off x="5784840" y="5450040"/>
            <a:ext cx="2646360" cy="517320"/>
            <a:chOff x="5784840" y="5450040"/>
            <a:chExt cx="2646360" cy="517320"/>
          </a:xfrm>
        </p:grpSpPr>
        <p:pic>
          <p:nvPicPr>
            <p:cNvPr id="609" name="Rectangle 156" descr=""/>
            <p:cNvPicPr/>
            <p:nvPr/>
          </p:nvPicPr>
          <p:blipFill>
            <a:blip r:embed="rId21"/>
            <a:stretch/>
          </p:blipFill>
          <p:spPr>
            <a:xfrm>
              <a:off x="5784840" y="5450040"/>
              <a:ext cx="2646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5857920" y="5487840"/>
              <a:ext cx="2500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Build  nr (cs,s’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Rectangular Callout 157"/>
          <p:cNvGrpSpPr/>
          <p:nvPr/>
        </p:nvGrpSpPr>
        <p:grpSpPr>
          <a:xfrm>
            <a:off x="8016840" y="4937040"/>
            <a:ext cx="895320" cy="720720"/>
            <a:chOff x="8016840" y="4937040"/>
            <a:chExt cx="895320" cy="720720"/>
          </a:xfrm>
        </p:grpSpPr>
        <p:pic>
          <p:nvPicPr>
            <p:cNvPr id="612" name="Rectangular Callout 157" descr=""/>
            <p:cNvPicPr/>
            <p:nvPr/>
          </p:nvPicPr>
          <p:blipFill>
            <a:blip r:embed="rId22"/>
            <a:stretch/>
          </p:blipFill>
          <p:spPr>
            <a:xfrm>
              <a:off x="8016840" y="4937040"/>
              <a:ext cx="8953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8429760" y="500076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Box 158"/>
          <p:cNvSpPr/>
          <p:nvPr/>
        </p:nvSpPr>
        <p:spPr>
          <a:xfrm>
            <a:off x="70560" y="5773680"/>
            <a:ext cx="2559600" cy="368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Total Cost=O(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onstantia"/>
              </a:rPr>
              <a:t>m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Elbow Connector 160"/>
          <p:cNvCxnSpPr/>
          <p:nvPr/>
        </p:nvCxnSpPr>
        <p:spPr>
          <a:xfrm>
            <a:off x="5457960" y="3471840"/>
            <a:ext cx="1722960" cy="17208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16" name="TextBox 161"/>
          <p:cNvSpPr/>
          <p:nvPr/>
        </p:nvSpPr>
        <p:spPr>
          <a:xfrm>
            <a:off x="5625000" y="32148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62"/>
          <p:cNvSpPr/>
          <p:nvPr/>
        </p:nvSpPr>
        <p:spPr>
          <a:xfrm>
            <a:off x="4359600" y="44388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Elbow Connector 164"/>
          <p:cNvCxnSpPr/>
          <p:nvPr/>
        </p:nvCxnSpPr>
        <p:spPr>
          <a:xfrm flipV="1" rot="16200000">
            <a:off x="2862360" y="3780000"/>
            <a:ext cx="1770840" cy="1152720"/>
          </a:xfrm>
          <a:prstGeom prst="bentConnector4">
            <a:avLst>
              <a:gd name="adj1" fmla="val -4168"/>
              <a:gd name="adj2" fmla="val 17681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19" name="TextBox 166"/>
          <p:cNvSpPr/>
          <p:nvPr/>
        </p:nvSpPr>
        <p:spPr>
          <a:xfrm>
            <a:off x="3546360" y="50817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67"/>
          <p:cNvSpPr/>
          <p:nvPr/>
        </p:nvSpPr>
        <p:spPr>
          <a:xfrm>
            <a:off x="6069600" y="47242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hape 169"/>
          <p:cNvCxnSpPr/>
          <p:nvPr/>
        </p:nvCxnSpPr>
        <p:spPr>
          <a:xfrm>
            <a:off x="5467320" y="4955760"/>
            <a:ext cx="1642320" cy="53244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622" name="Straight Arrow Connector 171"/>
          <p:cNvCxnSpPr/>
          <p:nvPr/>
        </p:nvCxnSpPr>
        <p:spPr>
          <a:xfrm flipH="1" flipV="1">
            <a:off x="5474520" y="5668200"/>
            <a:ext cx="383400" cy="3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23" name="TextBox 172"/>
          <p:cNvSpPr/>
          <p:nvPr/>
        </p:nvSpPr>
        <p:spPr>
          <a:xfrm>
            <a:off x="2784240" y="54291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Shape 190"/>
          <p:cNvCxnSpPr/>
          <p:nvPr/>
        </p:nvCxnSpPr>
        <p:spPr>
          <a:xfrm flipV="1" rot="16200000">
            <a:off x="5568480" y="2602800"/>
            <a:ext cx="1500840" cy="1722960"/>
          </a:xfrm>
          <a:prstGeom prst="bentConnector4">
            <a:avLst>
              <a:gd name="adj1" fmla="val -15235"/>
              <a:gd name="adj2" fmla="val -73312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625" name="Shape 203"/>
          <p:cNvCxnSpPr/>
          <p:nvPr/>
        </p:nvCxnSpPr>
        <p:spPr>
          <a:xfrm flipV="1" rot="10800000">
            <a:off x="4314240" y="2328480"/>
            <a:ext cx="1543680" cy="10080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626" name="Forma 156"/>
          <p:cNvCxnSpPr/>
          <p:nvPr/>
        </p:nvCxnSpPr>
        <p:spPr>
          <a:xfrm rot="5400000">
            <a:off x="3499560" y="5240160"/>
            <a:ext cx="118080" cy="1546920"/>
          </a:xfrm>
          <a:prstGeom prst="bentConnector2">
            <a:avLst/>
          </a:prstGeom>
          <a:ln w="9360">
            <a:solidFill>
              <a:srgbClr val="065093"/>
            </a:solidFill>
            <a:miter/>
          </a:ln>
        </p:spPr>
      </p:cxnSp>
      <p:sp>
        <p:nvSpPr>
          <p:cNvPr id="627" name="Connettore 1 191"/>
          <p:cNvSpPr/>
          <p:nvPr/>
        </p:nvSpPr>
        <p:spPr>
          <a:xfrm>
            <a:off x="1714680" y="3071880"/>
            <a:ext cx="0" cy="3714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Forma 211"/>
          <p:cNvCxnSpPr/>
          <p:nvPr/>
        </p:nvCxnSpPr>
        <p:spPr>
          <a:xfrm rot="5400000">
            <a:off x="2999880" y="5429160"/>
            <a:ext cx="72360" cy="2643840"/>
          </a:xfrm>
          <a:prstGeom prst="bentConnector2">
            <a:avLst/>
          </a:prstGeom>
          <a:ln w="9360">
            <a:solidFill>
              <a:srgbClr val="065093"/>
            </a:solidFill>
            <a:miter/>
          </a:ln>
        </p:spPr>
      </p:cxnSp>
      <p:cxnSp>
        <p:nvCxnSpPr>
          <p:cNvPr id="629" name="Connettore 2 215"/>
          <p:cNvCxnSpPr/>
          <p:nvPr/>
        </p:nvCxnSpPr>
        <p:spPr>
          <a:xfrm>
            <a:off x="1714320" y="3071880"/>
            <a:ext cx="25722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630" name="Forma 231"/>
          <p:cNvCxnSpPr/>
          <p:nvPr/>
        </p:nvCxnSpPr>
        <p:spPr>
          <a:xfrm rot="5400000">
            <a:off x="5653080" y="5331600"/>
            <a:ext cx="175680" cy="2736000"/>
          </a:xfrm>
          <a:prstGeom prst="bentConnector2">
            <a:avLst/>
          </a:prstGeom>
          <a:ln w="9360">
            <a:solidFill>
              <a:srgbClr val="065093"/>
            </a:solidFill>
            <a:miter/>
          </a:ln>
        </p:spPr>
      </p:cxnSp>
      <p:sp>
        <p:nvSpPr>
          <p:cNvPr id="631" name="TextBox 63"/>
          <p:cNvSpPr/>
          <p:nvPr/>
        </p:nvSpPr>
        <p:spPr>
          <a:xfrm>
            <a:off x="5289840" y="65800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Forma 239"/>
          <p:cNvCxnSpPr/>
          <p:nvPr/>
        </p:nvCxnSpPr>
        <p:spPr>
          <a:xfrm rot="10800000">
            <a:off x="2285280" y="5307840"/>
            <a:ext cx="903960" cy="361080"/>
          </a:xfrm>
          <a:prstGeom prst="bentConnector2">
            <a:avLst/>
          </a:prstGeom>
          <a:ln w="9360">
            <a:solidFill>
              <a:srgbClr val="065093"/>
            </a:solidFill>
            <a:miter/>
          </a:ln>
        </p:spPr>
      </p:cxnSp>
      <p:cxnSp>
        <p:nvCxnSpPr>
          <p:cNvPr id="633" name="Forma 241"/>
          <p:cNvCxnSpPr/>
          <p:nvPr/>
        </p:nvCxnSpPr>
        <p:spPr>
          <a:xfrm flipH="1" flipV="1" rot="5400000">
            <a:off x="2425320" y="5316120"/>
            <a:ext cx="1116720" cy="396000"/>
          </a:xfrm>
          <a:prstGeom prst="bent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Segnaposto contenuto 6" descr=""/>
          <p:cNvPicPr/>
          <p:nvPr/>
        </p:nvPicPr>
        <p:blipFill>
          <a:blip r:embed="rId1"/>
          <a:stretch/>
        </p:blipFill>
        <p:spPr>
          <a:xfrm>
            <a:off x="450720" y="1279440"/>
            <a:ext cx="8242560" cy="505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 graphical user interface used in our application is Swing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We have used tabbed pane to show many objects in the same spac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Each tab contains a kind of information like Available tab contains all Available Servic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4F0-BD8F-48B8-BDD8-472AF16F5907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Input objects are Available and Target Servic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se objects are loaded from files by ReadFile class and they are displayed on screen by JGraph Librar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09D-A40E-4D1C-84D1-D1792E7CD78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JGraph provides a class JGraph that inherit from the Swing class Component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By GraphFactory class, we build the JGraph object from service and we add it in on the panel directl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8670-3CBF-4BD2-A367-9AF6DE5FE3E7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Open sourc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Fully Swing compatible componen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Very powerfu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Simple to us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Highly interactiv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AFF-1A9D-48D2-9B72-1FC7C90C89B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olo 1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1202040"/>
          </a:xfrm>
          <a:prstGeom prst="rect">
            <a:avLst/>
          </a:prstGeom>
          <a:ln w="0">
            <a:noFill/>
          </a:ln>
        </p:spPr>
      </p:pic>
      <p:sp>
        <p:nvSpPr>
          <p:cNvPr id="252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egnaposto numero diapositiva 8"/>
          <p:cNvSpPr/>
          <p:nvPr/>
        </p:nvSpPr>
        <p:spPr>
          <a:xfrm>
            <a:off x="795348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13"/>
          <p:cNvSpPr/>
          <p:nvPr/>
        </p:nvSpPr>
        <p:spPr>
          <a:xfrm>
            <a:off x="1071720" y="1714680"/>
            <a:ext cx="728640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irst Par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ject Structure (Service, State, Ac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rtesian produ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Second Pa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ulation and Orchestrator algorith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ird Pa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raphical Interface (final output and xm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457200" y="24289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Poor documenta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Difficult to understand some settings like the shape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of  vertex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8DE8-A35F-48C6-8064-2A4BEBAFFCBC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JGraphLayout is a library that provides a set of  algorithm to change the position of nodes and edges to improve the display of the graph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ctr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is library is not open sourc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5484-DBBC-4668-8731-D67F84ED67B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Outputs of application are mainly two objects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nstantia"/>
              </a:rPr>
              <a:t>Orchestator</a:t>
            </a: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Constantia"/>
              </a:rPr>
              <a:t>Simula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se objects are displayed as tables using Jtabl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You can export these tables in xml fil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0C1-611A-4A23-83C0-1C225C410A22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o display a table, we have used the swing component JTable and the data container CustomTableMode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CustomTableModel inherits from DefaultTableModel but it prevents the changes data on the tabl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0D83-387A-46D4-B95C-2D4336DA7B6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 buttons are used on panels to various functions. For example the button AddService open a dialog (FileChooser) that allow to add a fil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 menu have funcions that affect to whole application, like to start orchestrator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390A-BA55-4348-99E7-0A95E24C9ECE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 panel Execute shows the execution of the orchestrator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It display the actual states (initially the initial states of the services) and it allow to choose an action to execute with the associated servic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The panel allow also to choose the set of the starting stat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365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170-F59B-44D7-9AF5-9D21BABF2698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276720" y="2133360"/>
            <a:ext cx="280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angle"/>
              </a:rPr>
              <a:t>…</a:t>
            </a:r>
            <a:r>
              <a:rPr b="1" lang="en-GB" sz="1800" spc="-1" strike="noStrike">
                <a:solidFill>
                  <a:srgbClr val="ffffff"/>
                </a:solidFill>
                <a:latin typeface="Bangle"/>
              </a:rPr>
              <a:t>end presentation</a:t>
            </a:r>
            <a:r>
              <a:rPr b="1" lang="it-IT" sz="1800" spc="-1" strike="noStrike">
                <a:solidFill>
                  <a:srgbClr val="ffffff"/>
                </a:solidFill>
                <a:latin typeface="Bangle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6549840" y="5143680"/>
            <a:ext cx="1761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Prepared b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Concetta Balest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Chiara Coc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Diego Colarull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Alberto Iachi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Hani Qu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910080" y="5143680"/>
            <a:ext cx="2171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Prepared 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Bangle"/>
                <a:ea typeface="Arial"/>
              </a:rPr>
              <a:t>Giuseppe De Giacom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2238480" y="3597120"/>
            <a:ext cx="4824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i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p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  <a:ea typeface="Arial"/>
              </a:rPr>
              <a:t>Service Integration Proje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1913400" y="278928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angle"/>
                <a:ea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Bangle"/>
                <a:ea typeface="Arial"/>
              </a:rPr>
              <a:t>Thanks' for atten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egnaposto data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9, 29th Ma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egnaposto numero diapositiva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90D-A9CB-438E-BF36-C39B449AF1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egnaposto piè di pagina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rvice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olo 1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1195560"/>
          </a:xfrm>
          <a:prstGeom prst="rect">
            <a:avLst/>
          </a:prstGeom>
          <a:ln w="0">
            <a:noFill/>
          </a:ln>
        </p:spPr>
      </p:pic>
      <p:sp>
        <p:nvSpPr>
          <p:cNvPr id="258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egnaposto numero diapositiva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Connettore 2 13"/>
          <p:cNvCxnSpPr/>
          <p:nvPr/>
        </p:nvCxnSpPr>
        <p:spPr>
          <a:xfrm>
            <a:off x="19288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project has the goal to realize an Orchestrator using composition-via-simulation given a community, represented by a set of available services, and a target serv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vice       Transition System T &lt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, S,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δ, F 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’s graphically represented by a grap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Segnaposto contenuto 6" descr=""/>
          <p:cNvPicPr/>
          <p:nvPr/>
        </p:nvPicPr>
        <p:blipFill>
          <a:blip r:embed="rId1"/>
          <a:stretch/>
        </p:blipFill>
        <p:spPr>
          <a:xfrm>
            <a:off x="450720" y="1279440"/>
            <a:ext cx="8242560" cy="505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Classes present in this package 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ReadFile cla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State class (object immutabl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Action class (object immutabl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StateAction class (value  immutabl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Service class (object immutable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Available Service class (services’s arra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Cartesian Product cla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Transition Function class (value  immutabl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AAD-3163-42AE-AF79-DDAE159964A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 file in input. Accept .txt, .doc, .docx, .pdf fi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ten in this wa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DB74-7284-4601-AA78-610A28F64AB9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magine 8" descr=""/>
          <p:cNvPicPr/>
          <p:nvPr/>
        </p:nvPicPr>
        <p:blipFill>
          <a:blip r:embed="rId2"/>
          <a:stretch/>
        </p:blipFill>
        <p:spPr>
          <a:xfrm>
            <a:off x="3643200" y="3643200"/>
            <a:ext cx="1714680" cy="20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 a state of a servic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state: St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Constructor: public State(String stat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getName():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returns state’s name as a St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335B-11A9-48E5-A37B-55919416558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olo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 an action reachable from a service’s stat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ction: St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nstructor: public Action(String action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etName(): returns action’s name as a Str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Segnaposto data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2009, 29th M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egnaposto piè di pagina 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5c75"/>
                </a:solidFill>
                <a:latin typeface="Freestyle Script"/>
              </a:rPr>
              <a:t>Servic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onnettore 1 9"/>
          <p:cNvSpPr/>
          <p:nvPr/>
        </p:nvSpPr>
        <p:spPr>
          <a:xfrm>
            <a:off x="500040" y="6429240"/>
            <a:ext cx="83581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numero diapositiva 1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CAF-F12E-47A4-8A32-ADA23697FF86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9:03:19Z</dcterms:created>
  <dc:creator>chiara</dc:creator>
  <dc:description/>
  <dc:language>en-US</dc:language>
  <cp:lastModifiedBy>Diego</cp:lastModifiedBy>
  <dcterms:modified xsi:type="dcterms:W3CDTF">2009-05-31T13:38:05Z</dcterms:modified>
  <cp:revision>516</cp:revision>
  <dc:subject/>
  <dc:title>Diapositiva 1</dc:title>
</cp:coreProperties>
</file>